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F86-4A97-4B0F-B078-DF9A5738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810-4B24-428E-A265-147A1425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B9AB0-A7E9-4E3A-A77F-77479365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493E6-F86F-42B8-87B6-BFF566FE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BED76-E4AC-4CEB-B533-CA3CA769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CBF23-7FE1-44C7-8696-C4099808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58F22-771D-41F3-AC54-FFB71688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20500-911F-40A0-B2EA-3111AE3E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4BB67-C606-45A6-B1EE-2EC12B96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795A2-175D-4E34-A4A2-17E20BB6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E074A-0E03-4B09-8F13-51CCB648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BC5C-79C8-41C2-A4FF-D41A46A4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FA0-F03D-4A63-A75E-ACD31170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5DAF-51A1-4B99-894A-2F989635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D434-8A3E-4992-8EA1-F062BE15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E6D8-6BB4-4614-AA77-33746736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7996-BD26-4331-B206-4C0C902A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73F4-736E-4C2D-B811-2AB47B66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E894-A333-40A3-9539-57511B08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5069-8132-4B8A-B4A9-39C8294E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12F-6CFA-4297-AAEF-3DF30BD1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FB04-DDCC-49A7-9B8F-AAFACCB4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DF94-F475-4CC9-A0A3-7A1D56A9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B546-4F0B-4E0F-94AE-57E5A574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4E3B-E182-4FD1-B9A7-7787A959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0416-35E9-4D92-ADE2-FBFF8ABD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910E-08D6-4603-9AA1-894B7C12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82FD3-D9AA-4E01-BA4B-48AF70F4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47F5B-4BF0-48A1-A16B-0AA9CB5A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E4E6A-7B26-4B34-8948-1E643E93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B99A8-9BC1-4A54-A18D-4C1BB936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D56-66B1-4908-8A32-2FC8561D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B4F5B-9162-420E-A8DB-98623EB9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59CF5-C722-49C3-A8ED-ADD79E37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71437-738F-458E-ABFC-0DE2FD6D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73C82-8F34-4E46-A4E5-CC0B3F30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28E44-89FB-4FC3-B112-24FD8648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E81B-0ABA-43A9-B96E-563A13A0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DECEC-6751-4948-97EE-EC5A65FC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9CDC8-3224-4E59-8AD8-1614EA3F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57CBD-8BEB-4067-97FB-C2C1171A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E917A-D0B9-4D68-8B7B-ACF6FE74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6FFA-BC5B-4FC5-A069-37677E05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1C43-6AE1-465A-B1F4-63D8998F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C8A25-3E15-4634-A570-A3BE6F78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FF86-84A2-45D9-8A79-EC8C7679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89A73-ADEB-4D1A-AA2F-B90FDE7C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8B7C8-990F-4359-BD40-C6D59A3D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AAE72-032F-4BEC-BD2D-841C01E6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AC372-3F47-4C54-91BC-AC9EACD9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D8753-99CB-499E-9866-20D4B2E9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F4FA2-A1B1-4329-AA02-23BCACA5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579F4-D481-44F0-8BEB-0075081E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62A-5001-430A-88B7-770D0F5E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AE3B8-BAA7-49B2-B2F9-37CEF06D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BF796-F23C-47FE-8ABB-B7AF9A7D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F3AEF-BBCF-46AA-9988-2DD9BD17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F8C7D-B6C4-4CCC-8D51-A67A6004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0CD2C-D8A8-493E-865C-3D71AE5A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BAD3E-A0EE-4276-AD9D-88D994E2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1CC3B-5BF3-4766-88BF-B5F468DE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E4E2B-2C86-4869-94FE-014751F4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E4327-221A-416E-B7E1-62E8DBB9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71F4F-0C60-49CD-B207-AAFBFED3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8898-3927-464D-A299-0164C85E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46855-4D64-461F-AC9C-14D64F6C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15B4D-DBF6-4C10-BF1A-DCD89461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D4527-9155-4DC7-AD8C-2819B2E1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BC7FC-D257-4B90-85C1-BA9E0448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C4A38-1FFB-4ABC-9078-CB8052A4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F2FEC-29EB-4A3C-87C3-195A6232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0CA7E-A6E1-4294-A656-3BDD3DE8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DF823-BAB0-4B7C-AB0A-D7B3539C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61487-D87B-4EBD-983B-2E5830CC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C910F-6387-49CB-B9B9-0FA2DEF1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9D5-8050-4E29-8EE7-3276E0DE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C4A75-A4D2-4724-BDCA-94BEB27D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3589D-C46B-4713-B07D-8E592284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40A46-9CCB-419D-86E9-AC5D159F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D6986-D1C5-4158-8CD1-8CCFDF17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56CEA-2640-4564-A687-171AB53B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18922-DBEC-4D49-90D1-C2368B2B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17453-88A8-44EE-B0D8-B32C0725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F0053-9686-4201-979F-D7318B69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A1A27-76BC-4A0F-AFB3-00AB04A4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5A87D-8CC1-41E1-91C3-2A5B90E9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948-33DA-4E67-BBE4-53194F68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C52AD-83EC-4167-B99E-68155AD9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3B879-843F-4D93-81ED-827B3540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57FB2-60CB-40D6-B8A4-022FD5E1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1DD6A-4B45-417D-B0DD-0344B4DF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3571D-96E3-40A5-937A-8963954D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F730B-E6FB-4FDC-BE9B-AAA03224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8770D-C915-43B8-B458-7825DC20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2BFB6-3ED8-4648-8E02-88253028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2D243-FD52-442F-8BF5-76834288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8EB3C-91B3-4C6B-81A9-CA0D49CD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223-961E-4729-B07E-EBD8B51A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B144B-5ECE-4787-B5D0-FC9F6D86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033BF-A2CC-4420-9A51-C0931BE1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5B961-A9A5-4B5F-B46D-A4DC44D8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80033-5856-4ADC-A609-67963409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35C57-C76E-49CB-805D-E9CC2B75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7A22F-CB56-46BF-A659-4EF7A28D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996A7-9B2C-4B02-BD14-CADACD66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4753C-AE7C-4440-AC1C-57570990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9ACF5-14EE-419D-8D47-9AC098B6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7E022-6A8E-4D05-8EEE-603163F9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517B-C585-472F-8B12-8B2E4C3247C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EC91-5E78-49A1-AA05-8E93513F0B22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FC8E-F706-4114-B7C0-C896EAAA638A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9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9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0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1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1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1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E4EF-09C5-45B5-90A6-6A11A6FBFC09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9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9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0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0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0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DBBE-DE3A-4995-B0E1-A7B9C7BC4FC1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5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DD8B-7EC0-4D25-A12C-E7CECD919329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4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B94F-F7FB-41CA-840A-57B594B5B35D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2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7ACD-ECA8-4C32-BCB2-7A2B422514BD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6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D18E-FB3D-43DE-BCD0-01885336290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7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252520" cy="21891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5580000" y="4292640"/>
            <a:ext cx="3024360" cy="21747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716360" y="692280"/>
            <a:ext cx="3888000" cy="2436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2700360" y="1628640"/>
            <a:ext cx="2995560" cy="36720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443640" y="2997360"/>
            <a:ext cx="2381400" cy="16095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755640" y="1557360"/>
            <a:ext cx="7777080" cy="338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>
                    <a:alpha val="44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新細明體"/>
              </a:rPr>
              <a:t>時事週－美伊戰爭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>
                  <a:alpha val="44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611280" y="476280"/>
          <a:ext cx="7812000" cy="6126120"/>
        </p:xfrm>
        <a:graphic>
          <a:graphicData uri="http://schemas.openxmlformats.org/drawingml/2006/table">
            <a:tbl>
              <a:tblPr/>
              <a:tblGrid>
                <a:gridCol w="1368360"/>
                <a:gridCol w="6443640"/>
              </a:tblGrid>
              <a:tr h="61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以美國為首的多國部隊發動「沙漠風暴」行動，在一個月後打敗伊拉克，海灣戰爭宣告結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戰事停火後，聯合國安理會通過決議，要求正式劃定科、伊邊界，並就戰爭賠償、武器銷毀作出了強制性規定，同時成立了特別委員會，對伊武器生產進行長期監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大批難民湧入土耳其、伊朗邊境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395280" y="333360"/>
          <a:ext cx="8229600" cy="608508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24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、英、法以阻止伊鎮壓國內少數民族為由，在伊北部設立「安全區」，要求伊軍隊及行政機構撤出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2</a:t>
                      </a: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總統布殊稱伊拉克、伊朗、北韓為「邪惡軸心」，以伊拉克擁有大殺傷力武器、與恐怖組織有密切連繫，及危害國際安全為由，推動國際社會向伊拉克動武，推翻撒達姆政權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611280" y="907920"/>
          <a:ext cx="8229600" cy="417996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41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3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繼續在聯合國推動向伊拉克出兵決議，但遭到法國、俄羅斯、中國等安理會成員反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請參考：聯合國安全理事會各理事國對出兵伊拉克的立場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。這些國家要求給予武器檢查員更多時間，以確定伊拉克有否發展大殺傷力武器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7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"/>
              </a:rPr>
              <a:t>支持及反對向伊拉克動武的理據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187280" y="1278000"/>
          <a:ext cx="7129800" cy="5181480"/>
        </p:xfrm>
        <a:graphic>
          <a:graphicData uri="http://schemas.openxmlformats.org/drawingml/2006/table">
            <a:tbl>
              <a:tblPr/>
              <a:tblGrid>
                <a:gridCol w="3565800"/>
                <a:gridCol w="356400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戰爭的理據是否合乎正義及公義的原則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指伊拉克是邪惡軸心國，擁有大殺傷力武器，及與策劃恐怖活動的團體有密切連繫，對國際社會構成重大威脅，故需先發制人，阻止伊拉克發難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英指薩達姆政權違反人權，故此必須清除薩達姆，改變伊拉克政權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根據聯合國憲章，國家可以在受到武力襲擊時，行使自衛的權利，發動軍事行動。但除此之外，國家需盡量透過「和平行動」，解決爭端。在此前提下，聯合國沒有認同國家可以以「先發制人」為由，發動戰爭 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聯合國憲章第鏖六及第七章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對於伊拉克擁有大殺傷力武器及與恐怖組織有連繫的指控，美國未能提出有力證據，使人信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薩達姆違反人權紀錄不容置疑。但不少社會團體均認為在促進政權改變的過程中，應透過人民力量，以及促進國內民主發展，而非借助戰爭達成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1523880" y="1397160"/>
          <a:ext cx="6719760" cy="4695480"/>
        </p:xfrm>
        <a:graphic>
          <a:graphicData uri="http://schemas.openxmlformats.org/drawingml/2006/table">
            <a:tbl>
              <a:tblPr/>
              <a:tblGrid>
                <a:gridCol w="3359880"/>
                <a:gridCol w="33598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發起戰爭的群體是否一個有充足法理基礎的群體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上下議院均通過對伊拉克動武，並有民意支持出兵決定為基礎。故此，即使沒有聯合國的支持，美國仍有足夠的法理基礎出兵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聯合國是全球最高權力的機構，唯獨聯合國才有足夠的法理基礎出兵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全球來自不同國家的人民上街抗議攻打伊拉克，他們為數有千萬之多，可見攻打伊拉克的民意基礎已受動搖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反戰連結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有評論指美國本身擁有大量大殺傷力武器，同時也不願意簽署多個限制武器的條約，其發動戰爭的合法性受到質疑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55640" y="981000"/>
            <a:ext cx="7489800" cy="259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你對此戰爭有什麼意見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反戰？主戰？不知道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4176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發制人攻伊……布殊相信這是歷史必然發展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曾經令他停止酗酒的基督教信仰，是使他出奇平靜自信的一大原因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布殊亦說：「信仰撐住了我，因為我天天祈禱。」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754360" cy="2719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847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雖然布殊從沒明言，但他確暗示相信自己是受到神意的啟示，「奉上帝之名替天行道」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布殊……在執行上帝的意旨。《聖經》說領袖是由上帝任命的，只要這位領袖是真的追隨主，主便會選定他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資料來源︰明報、</a:t>
            </a: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News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2808000" cy="2024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在上有權柄的， 人人當順服他。 因為沒有權柄不是出於神的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凡掌權的都是神所命的。所以抗拒掌權的，就是抗拒神的命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抗拒的必自取刑罰。作官的原不是叫行善的懼怕， 乃是叫作惡的懼怕。你願意不懼怕掌權的麼。你只要行善， 就可得他的稱讚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因為他是神的用人， 是與你有益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你若作惡， 卻當懼怕。 因為他不是空空的佩劍。 他是神的用人， 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是伸冤的， 刑罰那作惡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所以你們必須順服， 不但是因為刑罰， 也是因為良心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羅馬書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13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5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要題醒眾人，叫他們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順服作官的，掌權的，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遵他的命，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豫備行各樣的善事。不要毀謗，不要爭競， 總要和平， 向眾人大顯溫柔。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多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-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問題討論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認同布殊的言論嗎？為什麼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基督徒一定要反戰嗎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時事週－美伊戰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透過週會，可讓團友對此場戰爭有初步的認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讓團友討論和分析此場戰爭，並了解基督徒如何回應此時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“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不可殺人”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出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0:13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戰爭一定牽渉殺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「他必在列國中施行審判，為許多國民斷定是非。他們要將刀打成犁頭，把槍打成鐮刀；這國不舉刀攻擊那國，他們也不再學習戰事。」以賽亞書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: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神對世上國家的心意是要解除武裝，和平共處，不再互相攻伐殺戮</a:t>
            </a:r>
            <a:r>
              <a:rPr b="1" lang="zh-TW" sz="3200" spc="-1" strike="noStrike">
                <a:solidFill>
                  <a:srgbClr val="6666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的心意是天地之間都能和諧共處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豺狼必與綿羊羔同居、豹子與山羊羔同臥。少壯獅子、與牛犢、並肥畜同群．小孩子要牽引他們。 牛必與熊同食。牛犢必與小熊同臥。獅子必喫草與牛一樣。 喫奶的孩子必玩耍在虺蛇的洞口、斷奶的嬰兒必按手在毒蛇的穴上。 在我聖山的遍處、這一切都不傷人、不害物．因為認識耶和華的知識要充滿遍地、好像水充滿洋海一般。」以賽亞書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1:6-9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神並不贊成用武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書亞記六章－神帶領以色人入迦南地，但並不表示神贊成用武力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e.g.: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攻打耶利哥城時之事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自然會帶領我得勝，用暴力是對神不信任的表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耶穌在十架寧願接受别人暴力，也不以暴易暴。被宰殺的羔羊卻要在世上作王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啟示錄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80"/>
                </a:solidFill>
                <a:latin typeface="新細明體"/>
              </a:rPr>
              <a:t>要以善報惡，自己國家被侵略也不可發動動力戰爭抵抗，用外交及其他和平方式解決問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新細明體"/>
              </a:rPr>
              <a:t>	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「你們聽見有話說：‘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以眼還眼，以牙還牙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。’只是我告訴你們：不要與惡人作對。有人打你的右臉，連左臉也轉過來由他打； 有人想要告你，要拿你的裡衣，連外衣也由他拿去； 有人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強逼你走一里路，你就同他走二里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； 你們聽見有話說：‘當愛你的鄰舍，恨你的仇敵。’只是我告訴你們：要愛你們的仇敵，為那逼迫你們的禱告。」 </a:t>
            </a:r>
            <a:r>
              <a:rPr b="0" lang="zh-TW" sz="24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馬太福音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5:3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命彼得收刀入鞘，不可用暴力來保護祂，可見發動戰爭並不是保衛國家的正當方法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有跟隨耶穌的一個人，伸手拔出刀來，將大祭司的僕人砍了一刀，削掉了他一個耳朵。耶穌對他說：“</a:t>
            </a:r>
            <a:r>
              <a:rPr b="1" lang="zh-TW" sz="2800" spc="-1" strike="noStrike" u="sng">
                <a:solidFill>
                  <a:srgbClr val="6666ff"/>
                </a:solidFill>
                <a:uFillTx/>
                <a:latin typeface="新細明體"/>
              </a:rPr>
              <a:t>收刀入鞘吧！凡動刀的，必死在刀下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你想，我不能求我父現在為我差遣十二營多天使來嗎？ 」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身處在革命時代，卻堅拒用武力革命的方式，而是用奴僕的工作來建立神的國。</a:t>
            </a:r>
            <a:r>
              <a:rPr b="1" lang="zh-TW" sz="2800" spc="-1" strike="noStrike">
                <a:solidFill>
                  <a:srgbClr val="006699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35272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在舊約中，神率領以色列作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以色列人進入迦南地是要透過戰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有時也不是全用勸導說服敵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翰福音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2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-15~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潔淨聖殿一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施洗約翰與士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“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不要以強暴待人，也不要訛詐人，自己有錢糧就當知足”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路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3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順服政府的掌權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因為他是神的用人， 是與你有益的。 你若作惡， 卻當懼怕。 因為他不是空空的佩劍。 他是神的用人， 是伸冤的， 刑罰那作惡的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羅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: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新約聖經多以戰爭比喻基督徒的生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穿戴神的全副軍裝 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弗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6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0-20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什麼是有限度的戰爭？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042920" y="2133720"/>
            <a:ext cx="69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有限度的戰爭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=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正義之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來源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第四世紀，奧古斯丁在便先啟其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二世紀，格拉典      將正義戰爭加以系統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到了中世紀末期，正義戰爭已成為思想界的共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天主教官方的立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六世紀的宗教改革，大部分的基督徒宗派也是接受正戰爭論。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6000" y="227664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"/>
          <p:cNvGraphicFramePr/>
          <p:nvPr/>
        </p:nvGraphicFramePr>
        <p:xfrm>
          <a:off x="395280" y="1989000"/>
          <a:ext cx="5256360" cy="4032360"/>
        </p:xfrm>
        <a:graphic>
          <a:graphicData uri="http://schemas.openxmlformats.org/drawingml/2006/table">
            <a:tbl>
              <a:tblPr/>
              <a:tblGrid>
                <a:gridCol w="1055520"/>
                <a:gridCol w="4200840"/>
              </a:tblGrid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共和國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The Republic of Iraq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首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巴格達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Baghdad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44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萬平方公里 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約為香港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4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"/>
          <p:cNvSpPr/>
          <p:nvPr/>
        </p:nvSpPr>
        <p:spPr>
          <a:xfrm>
            <a:off x="1835280" y="7650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000099"/>
                </a:solidFill>
                <a:latin typeface="Times New Roman"/>
              </a:rPr>
              <a:t>伊拉克基本資料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300348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"/>
              </a:rPr>
              <a:t>開戰條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開戰原因正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由最高權威人士批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是解決問題的最後途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的成功機會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衡量戰爭的得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沙場守則 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即戰場上的守則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堅守“分辨原則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分辨出非軍事設施、非戰鬥人員不可蓄意破壞和傷害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美伊之戰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=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正義戰爭？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美國開戰的原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美國以戰爭真的能達到“反恐”的目的嗎？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戰爭是最後的途徑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伊拉克對核查方案，漸見讓步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最高權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聯合國並不批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900000" y="981000"/>
          <a:ext cx="7343640" cy="4741920"/>
        </p:xfrm>
        <a:graphic>
          <a:graphicData uri="http://schemas.openxmlformats.org/drawingml/2006/table">
            <a:tbl>
              <a:tblPr/>
              <a:tblGrid>
                <a:gridCol w="1942920"/>
                <a:gridCol w="5400720"/>
              </a:tblGrid>
              <a:tr h="186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人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24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萬人，主要為阿拉伯人，佔整體人口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75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，而庫爾德人亦佔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0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官方語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阿拉伯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宗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九成半人口信奉伊斯蘭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工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農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7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工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服務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684360" y="549360"/>
          <a:ext cx="7991280" cy="5638680"/>
        </p:xfrm>
        <a:graphic>
          <a:graphicData uri="http://schemas.openxmlformats.org/drawingml/2006/table">
            <a:tbl>
              <a:tblPr/>
              <a:tblGrid>
                <a:gridCol w="1295280"/>
                <a:gridCol w="6696000"/>
              </a:tblGrid>
              <a:tr h="56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簡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伊拉克有著悠久的歷史。公元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元建立了巴比倫王國，為四大文明古國之一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其後，先後被波斯人、阿拉伯帝國、蒙古及奧圖曼帝國入侵及統治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2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為英國「委任統治區」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3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獲得完全獨立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5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立伊拉克共和國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更多資料：伊拉克大事紀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539640" y="341280"/>
          <a:ext cx="8209080" cy="5932440"/>
        </p:xfrm>
        <a:graphic>
          <a:graphicData uri="http://schemas.openxmlformats.org/drawingml/2006/table">
            <a:tbl>
              <a:tblPr/>
              <a:tblGrid>
                <a:gridCol w="1295640"/>
                <a:gridCol w="6913440"/>
              </a:tblGrid>
              <a:tr h="59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伊拉克現時的執政黨為阿拉伯復興社會黨，黨總書記薩達姆‧侯賽因自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79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接管政權，現為伊拉克總統，兼任國家總理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8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，伊拉克與伊朗因邊界糾紛引發歷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的兩伊戰爭，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又因侵略科威特，引發海灣戰爭，現仍為聯合國制裁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國內，伊拉克政府一直鎮壓庫爾德人的獨立運動，以及什葉派回教徒的反政府活動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395280" y="907920"/>
          <a:ext cx="8280360" cy="4861080"/>
        </p:xfrm>
        <a:graphic>
          <a:graphicData uri="http://schemas.openxmlformats.org/drawingml/2006/table">
            <a:tbl>
              <a:tblPr/>
              <a:tblGrid>
                <a:gridCol w="1806480"/>
                <a:gridCol w="6473880"/>
              </a:tblGrid>
              <a:tr h="48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資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的石油及天然氣資源豐富。伊國石油藏量為全球第二大，僅次於沙特阿拉伯，而且大多是未經開發的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此外，伊拉克中部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幼發拉底河和底格里斯河流域地區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一直是國家主要的農業地區，大部分人口都聚居此地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395280" y="1197000"/>
          <a:ext cx="8280360" cy="2427120"/>
        </p:xfrm>
        <a:graphic>
          <a:graphicData uri="http://schemas.openxmlformats.org/drawingml/2006/table">
            <a:tbl>
              <a:tblPr/>
              <a:tblGrid>
                <a:gridCol w="1584360"/>
                <a:gridCol w="6696000"/>
              </a:tblGrid>
              <a:tr h="24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經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伊拉克入侵科威特後，伊拉克一直受到聯合國的經濟制裁，除了凍結了伊在海外的資產以外，伊拉克對外經貿亦受到限制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1099440" y="4581360"/>
            <a:ext cx="7268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資料來源：世界知識年鑑，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；中華人民共和國外交部網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 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網址為：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http://www..fmprc.gov.cn/chn/6616.htm1)</a:t>
            </a:r>
            <a:r>
              <a:rPr b="0" lang="zh-TW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美伊衝突事件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755640" y="1484280"/>
          <a:ext cx="7561440" cy="4951440"/>
        </p:xfrm>
        <a:graphic>
          <a:graphicData uri="http://schemas.openxmlformats.org/drawingml/2006/table">
            <a:tbl>
              <a:tblPr/>
              <a:tblGrid>
                <a:gridCol w="1368720"/>
                <a:gridCol w="619272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重要事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以科威特夥同阿聯酋超產石油，導致油價下跌，以及在有領土爭端的油田盜採石油為由，攻佔科威特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際社會紛紛譴責伊拉克，要求伊立即撤軍。聯合國安理會通過決議，決定經濟制裁伊拉克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41:48Z</dcterms:created>
  <dc:creator>LING</dc:creator>
  <dc:description/>
  <dc:language>en-US</dc:language>
  <cp:lastModifiedBy>LING</cp:lastModifiedBy>
  <dcterms:modified xsi:type="dcterms:W3CDTF">2003-03-25T17:04:55Z</dcterms:modified>
  <cp:revision>12</cp:revision>
  <dc:subject/>
  <dc:title>正義戰爭的來源︰</dc:title>
</cp:coreProperties>
</file>