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4ADB-0579-4B76-B98F-1F1B2ABFA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C5C5D-2034-4F40-8F75-5CD750E52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601073-5C87-4CB0-9A98-92B772DA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C9C3D9-7A92-44B3-83FE-93ED17BA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B1F55E-6032-4F01-A24A-20D27573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955634-9B8D-4FD0-AD53-C32F8F3C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F517E-541E-4D48-A32A-20C7C1185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869728-FECA-4AED-AADB-45922141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7B65A9-B64D-4977-A8DD-DE101B72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F64F7A-BB58-4F64-94CA-6D0883583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4212D9-1C8E-41FE-9F43-75BA3E0ED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808B-1A9E-4693-BD68-9A516BBC0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84B5-A406-4080-9E6B-7111512C5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5700-D3DC-498B-829D-BE2A1A0EE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493C-085F-4C32-AD76-560966EC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90C2-8337-4F27-AD0D-E13F0F29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0F4D-2D51-4C46-B679-023ABB38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BA9D4-A9A3-4E53-96BC-E6BE997D1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8090-1C2F-436E-99C9-2D117513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04E37-D847-4DB4-8A60-0F8EBAC4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D109-7FE6-4322-A94F-BA944DCD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FC9CE-BDAE-493C-8791-3ABE09BD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9670C-2441-47AD-A497-33F2A958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C184-9CBE-4052-A05B-B618D772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E50B-6FCC-4E25-A3C9-A0E8EC6B6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37D2E-5D84-4B88-8751-4B42D6E71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9112E-427A-4426-9B37-EEB464151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32FCC-8FC5-4888-BE3F-07250CDF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A2F89E-AFD5-42F7-8556-23AA32179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8DEFB-71D1-4900-AC49-4D8257D7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21B76-9B4C-4866-82C3-32591E7F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56DE-D6E9-4DF5-9C0F-965E4652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2EB9E-5B4A-4EA5-B01A-DBE231040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BD520-8D8C-41D2-A4C3-90DFEC9B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53A00-E59B-4D8E-8CDB-A64C4773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A25B2-9A04-444F-A185-56752306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20238-14A4-4DD5-B9AA-8D4E2709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F24F0-3473-4757-8113-2D046CF11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32501-4199-4A48-914C-C7D896E70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DA11D-58A0-436E-8B28-087EDA971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A38B2-9B2B-4C19-B962-BB1C32F7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C42BF-78DF-46A5-9D67-5360716A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5D61-2CED-4DB0-B77A-C422F26D1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BE791-F940-4D31-A8B0-5B72BC24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FF593-4BEE-46E1-B72C-AEEC4FBB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856DA-5DB2-4F38-86C5-BFE4F229F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6D311-25EF-4B67-8CCA-06860935E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31629-47A1-4F4B-BD14-76030FEA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05A73-0661-48DD-8890-EF7123EA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AB632-6380-47EB-BC2F-A2262B25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E7114-28C2-423B-B1AF-BB93E36A5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0B312-480E-4A80-9505-EB0198C6C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53290E-A979-4D1A-A1A7-EBE054AC5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8B00-C82E-44E1-A696-9A618A9C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A5715-751E-4703-BB78-03416D3F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644A6-5EC3-4EF5-B71A-272959D0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1387A-63BF-4CEC-BD55-9CB805D5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6D6C8-D449-491B-B5A7-DA4FFC23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95FB5-3158-41D1-A45D-CF7A2461D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E9025-6B8E-43B8-A11B-80DC6AEC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80A48-A7D3-49EA-AA39-BDE7F794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70A20-7F88-4A77-B8BC-8045C5BC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A1F58-94A7-4AEB-96A7-5A4A6868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779D5-1A7D-4CA5-8CE3-4CE830EA2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2480-4449-4ECB-B917-90C130D4A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CB7DF-8015-4B65-8CA0-A0B8027DF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643C7-3C55-4FB8-B8D5-52B7476E3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B458EC-A7A2-4DC7-B7C1-021E88C1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58F8C-66E4-4843-8224-ED7E2556B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8DB9E-0573-4FC6-AE0C-9D8AB3E70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CC4D7-B1EE-4996-8E99-6F0BFE0A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BEAE8-9463-4231-997A-4FCABD1F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F69FC-F800-4256-BAB2-31165EA0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01D60C-3058-4619-B97A-FC646200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42A86-623E-436B-83D4-B7525541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48BD-9306-423A-91BC-1E132DFD9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7FC37-A1F0-4337-89BA-68B6DA95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0340D-A848-4694-8205-9150176C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09AC0-F5C4-4314-A3D0-67E00D606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5076D-BD37-465C-9C3D-07EFAECAF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89C33-3CAB-4573-911E-4A8132D34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A4215A-DB0F-4AF6-8453-C02331A2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BFC98-3074-4E36-8AB8-91D1EA4D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A4120-C949-4F1F-A7AC-FA43210D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599A1-0C10-48BA-AF16-74966A25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413C5-A1BA-41B8-AE09-228DCB15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EFA5-3E8C-42A8-B846-EBB71AD8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292DD-5E65-4DBC-9DA5-4BA594C5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40F5C-5491-44AB-AE5C-94750BDD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922EB1-D2B6-42CA-9125-C4A384E6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C6E8F-C7D8-473C-8672-67359F6C2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D607C1-168F-4B47-81AA-666BD8BD7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F3FA4-7EE6-40C3-AC91-E28E77809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0551D1-15B7-4673-BDD2-C87765741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8B21E-5A57-437D-B35C-BF92E1BA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44B2C3-0CC8-470D-B20E-DF647C5A0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B74AB-4425-49CD-A92D-F0A6DE61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662D-CF75-49FC-96A8-F41A54E4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75836-3973-48A0-8182-6BA44A86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6BC337-AFA4-4B95-A937-DC290DDF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9A1B7-098F-47FA-A44D-7D961257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02D06-4A24-4E2F-BA23-AD364BB6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D778C-DFDB-40F4-815D-7D42CBC5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BAC1F-4D8D-4616-BD7C-9D793CB99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B681C3-A5E5-4A6E-A8A8-C2B8B2774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3A166-4189-479D-BBD4-A73A1C8CF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1E97B7-EDDD-4945-88AF-A8E4B26D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4F6E38-5A2A-484B-925F-3A67FCAC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12B0-2F45-49A9-8CCB-3BB9C820E1D7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2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9FD8-4670-485B-B795-747DC420BA81}" type="slidenum">
              <a:rPr b="0" lang="zh-TW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1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406D-EE1D-4DC6-B1F1-BEF5A187ED89}" type="slidenum">
              <a:rPr b="0" lang="zh-TW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93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195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200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206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9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210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14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18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D7AFD-972C-4288-A8AC-A84A9C68FEBB}" type="slidenum">
              <a:rPr b="0" lang="zh-TW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277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278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292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296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300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304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308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PlaceHolder 1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8FB2-127B-4475-9F67-887E058CB7DA}" type="slidenum">
              <a:rPr b="0" lang="zh-TW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59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5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96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5D72-C2D6-497D-A462-E1E9D02D7E66}" type="slidenum"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40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77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7EF4A-AF28-4B16-B8FF-53F0465F2F0F}" type="slidenum"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9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520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CFC53-F925-4294-8E96-D331CB6191E7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567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PlaceHolder 1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D363E-ED53-4FA4-B6EC-4EC4412FED7D}" type="slidenum"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7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468360" y="4292640"/>
            <a:ext cx="2252520" cy="218916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2"/>
          <a:stretch/>
        </p:blipFill>
        <p:spPr>
          <a:xfrm>
            <a:off x="5580000" y="4292640"/>
            <a:ext cx="3024360" cy="217476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3"/>
          <a:stretch/>
        </p:blipFill>
        <p:spPr>
          <a:xfrm>
            <a:off x="468360" y="907920"/>
            <a:ext cx="2857320" cy="183852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4"/>
          <a:stretch/>
        </p:blipFill>
        <p:spPr>
          <a:xfrm>
            <a:off x="4716360" y="692280"/>
            <a:ext cx="3888000" cy="243684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5"/>
          <a:stretch/>
        </p:blipFill>
        <p:spPr>
          <a:xfrm>
            <a:off x="2700360" y="1628640"/>
            <a:ext cx="2995560" cy="367200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6"/>
          <a:stretch/>
        </p:blipFill>
        <p:spPr>
          <a:xfrm>
            <a:off x="6443640" y="2997360"/>
            <a:ext cx="2381400" cy="16095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 txBox="1"/>
          <p:nvPr/>
        </p:nvSpPr>
        <p:spPr>
          <a:xfrm>
            <a:off x="755640" y="1557360"/>
            <a:ext cx="7777080" cy="3384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00">
                    <a:alpha val="44000"/>
                  </a:srgbClr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新細明體"/>
              </a:rPr>
              <a:t>時事週－美伊戰爭</a:t>
            </a:r>
            <a:endParaRPr b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00">
                  <a:alpha val="44000"/>
                </a:srgbClr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77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" dur="770" fill="hold"/>
                                        <p:tgtEl>
                                          <p:spTgt spid="6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3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250" autoRev="1" fill="hold"/>
                                        <p:tgtEl>
                                          <p:spTgt spid="6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3" name=""/>
          <p:cNvGraphicFramePr/>
          <p:nvPr/>
        </p:nvGraphicFramePr>
        <p:xfrm>
          <a:off x="611280" y="476280"/>
          <a:ext cx="7812000" cy="6126120"/>
        </p:xfrm>
        <a:graphic>
          <a:graphicData uri="http://schemas.openxmlformats.org/drawingml/2006/table">
            <a:tbl>
              <a:tblPr/>
              <a:tblGrid>
                <a:gridCol w="1368360"/>
                <a:gridCol w="6443640"/>
              </a:tblGrid>
              <a:tr h="612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91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以美國為首的多國部隊發動「沙漠風暴」行動，在一個月後打敗伊拉克，海灣戰爭宣告結束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戰事停火後，聯合國安理會通過決議，要求正式劃定科、伊邊界，並就戰爭賠償、武器銷毀作出了強制性規定，同時成立了特別委員會，對伊武器生產進行長期監察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伊拉克大批難民湧入土耳其、伊朗邊境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4" name=""/>
          <p:cNvGraphicFramePr/>
          <p:nvPr/>
        </p:nvGraphicFramePr>
        <p:xfrm>
          <a:off x="395280" y="333360"/>
          <a:ext cx="8229600" cy="6085080"/>
        </p:xfrm>
        <a:graphic>
          <a:graphicData uri="http://schemas.openxmlformats.org/drawingml/2006/table">
            <a:tbl>
              <a:tblPr/>
              <a:tblGrid>
                <a:gridCol w="1736640"/>
                <a:gridCol w="6492960"/>
              </a:tblGrid>
              <a:tr h="242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91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美、英、法以阻止伊鎮壓國內少數民族為由，在伊北部設立「安全區」，要求伊軍隊及行政機構撤出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2002</a:t>
                      </a:r>
                      <a:r>
                        <a:rPr b="1" lang="zh-CN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美國總統布殊稱伊拉克、伊朗、北韓為「邪惡軸心」，以伊拉克擁有大殺傷力武器、與恐怖組織有密切連繫，及危害國際安全為由，推動國際社會向伊拉克動武，推翻撒達姆政權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5" name=""/>
          <p:cNvGraphicFramePr/>
          <p:nvPr/>
        </p:nvGraphicFramePr>
        <p:xfrm>
          <a:off x="611280" y="907920"/>
          <a:ext cx="8229600" cy="4179960"/>
        </p:xfrm>
        <a:graphic>
          <a:graphicData uri="http://schemas.openxmlformats.org/drawingml/2006/table">
            <a:tbl>
              <a:tblPr/>
              <a:tblGrid>
                <a:gridCol w="1736640"/>
                <a:gridCol w="6492960"/>
              </a:tblGrid>
              <a:tr h="41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2003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美國繼續在聯合國推動向伊拉克出兵決議，但遭到法國、俄羅斯、中國等安理會成員反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(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請參考：聯合國安全理事會各理事國對出兵伊拉克的立場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)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。這些國家要求給予武器檢查員更多時間，以確定伊拉克有否發展大殺傷力武器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87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800" spc="-1" strike="noStrike">
                <a:solidFill>
                  <a:srgbClr val="ff3399"/>
                </a:solidFill>
                <a:latin typeface="Arial"/>
              </a:rPr>
              <a:t>支持及反對向伊拉克動武的理據</a:t>
            </a:r>
            <a:r>
              <a:rPr b="0" lang="zh-TW" sz="3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7" name=""/>
          <p:cNvGraphicFramePr/>
          <p:nvPr/>
        </p:nvGraphicFramePr>
        <p:xfrm>
          <a:off x="1187280" y="1278000"/>
          <a:ext cx="7129800" cy="5181480"/>
        </p:xfrm>
        <a:graphic>
          <a:graphicData uri="http://schemas.openxmlformats.org/drawingml/2006/table">
            <a:tbl>
              <a:tblPr/>
              <a:tblGrid>
                <a:gridCol w="3565800"/>
                <a:gridCol w="3564000"/>
              </a:tblGrid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支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反對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戰爭的理據是否合乎正義及公義的原則？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美國指伊拉克是邪惡軸心國，擁有大殺傷力武器，及與策劃恐怖活動的團體有密切連繫，對國際社會構成重大威脅，故需先發制人，阻止伊拉克發難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美英指薩達姆政權違反人權，故此必須清除薩達姆，改變伊拉克政權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根據聯合國憲章，國家可以在受到武力襲擊時，行使自衛的權利，發動軍事行動。但除此之外，國家需盡量透過「和平行動」，解決爭端。在此前提下，聯合國沒有認同國家可以以「先發制人」為由，發動戰爭 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(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請參考：聯合國憲章第鏖六及第七章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)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對於伊拉克擁有大殺傷力武器及與恐怖組織有連繫的指控，美國未能提出有力證據，使人信服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薩達姆違反人權紀錄不容置疑。但不少社會團體均認為在促進政權改變的過程中，應透過人民力量，以及促進國內民主發展，而非借助戰爭達成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8" name=""/>
          <p:cNvGraphicFramePr/>
          <p:nvPr/>
        </p:nvGraphicFramePr>
        <p:xfrm>
          <a:off x="1523880" y="1397160"/>
          <a:ext cx="6719760" cy="4695480"/>
        </p:xfrm>
        <a:graphic>
          <a:graphicData uri="http://schemas.openxmlformats.org/drawingml/2006/table">
            <a:tbl>
              <a:tblPr/>
              <a:tblGrid>
                <a:gridCol w="3359880"/>
                <a:gridCol w="3359880"/>
              </a:tblGrid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支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反對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發起戰爭的群體是否一個有充足法理基礎的群體？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美國上下議院均通過對伊拉克動武，並有民意支持出兵決定為基礎。故此，即使沒有聯合國的支持，美國仍有足夠的法理基礎出兵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聯合國是全球最高權力的機構，唯獨聯合國才有足夠的法理基礎出兵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全球來自不同國家的人民上街抗議攻打伊拉克，他們為數有千萬之多，可見攻打伊拉克的民意基礎已受動搖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(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請參考：反戰連結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)</a:t>
                      </a: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1600" spc="-1" strike="noStrike">
                          <a:solidFill>
                            <a:srgbClr val="663300"/>
                          </a:solidFill>
                          <a:latin typeface="Arial"/>
                        </a:rPr>
                        <a:t>有評論指美國本身擁有大量大殺傷力武器，同時也不願意簽署多個限制武器的條約，其發動戰爭的合法性受到質疑。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 txBox="1"/>
          <p:nvPr/>
        </p:nvSpPr>
        <p:spPr>
          <a:xfrm>
            <a:off x="755640" y="981000"/>
            <a:ext cx="7489800" cy="2590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你對此戰爭有什麼意見呢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反戰？主戰？不知道？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4500720" y="3429000"/>
            <a:ext cx="417672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dbbd71"/>
                </a:solidFill>
                <a:latin typeface="Arial"/>
              </a:rPr>
              <a:t>布殊自信奉上帝「替天行道」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1944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發制人攻伊……布殊相信這是歷史必然發展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曾經令他停止酗酒的基督教信仰，是使他出奇平靜自信的一大原因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布殊亦說：「信仰撐住了我，因為我天天祈禱。」</a:t>
            </a:r>
            <a:r>
              <a:rPr b="1" lang="zh-TW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5867280" y="1844640"/>
            <a:ext cx="2754360" cy="27194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4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10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1000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1000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dbbd71"/>
                </a:solidFill>
                <a:latin typeface="Arial"/>
              </a:rPr>
              <a:t>布殊自信奉上帝「替天行道」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5184720" cy="57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Tahoma"/>
              </a:rPr>
              <a:t>雖然布殊從沒明言，但他確暗示相信自己是受到神意的啟示，「奉上帝之名替天行道」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布殊……在執行上帝的意旨。《聖經》說領袖是由上帝任命的，只要這位領袖是真的追隨主，主便會選定他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ffffff"/>
                </a:solidFill>
                <a:latin typeface="新細明體"/>
              </a:rPr>
              <a:t>資料來源︰明報、</a:t>
            </a:r>
            <a:r>
              <a:rPr b="1" lang="zh-TW" sz="2000" spc="-1" strike="noStrike">
                <a:solidFill>
                  <a:srgbClr val="ffffff"/>
                </a:solidFill>
                <a:latin typeface="新細明體"/>
              </a:rPr>
              <a:t>Newswee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1"/>
          <a:stretch/>
        </p:blipFill>
        <p:spPr>
          <a:xfrm>
            <a:off x="6012000" y="2492280"/>
            <a:ext cx="2808000" cy="202428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8,-128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在上有權柄的， 人人當順服他。 因為沒有權柄不是出於神的。</a:t>
            </a:r>
            <a:r>
              <a:rPr b="1" lang="zh-TW" sz="2800" spc="-1" strike="noStrike">
                <a:solidFill>
                  <a:srgbClr val="ff9933"/>
                </a:solidFill>
                <a:latin typeface="新細明體"/>
              </a:rPr>
              <a:t>凡掌權的都是神所命的。所以抗拒掌權的，就是抗拒神的命。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 抗拒的必自取刑罰。作官的原不是叫行善的懼怕， 乃是叫作惡的懼怕。你願意不懼怕掌權的麼。你只要行善， 就可得他的稱讚。</a:t>
            </a:r>
            <a:r>
              <a:rPr b="1" lang="zh-TW" sz="2800" spc="-1" strike="noStrike">
                <a:solidFill>
                  <a:srgbClr val="ff9933"/>
                </a:solidFill>
                <a:latin typeface="新細明體"/>
              </a:rPr>
              <a:t>因為他是神的用人， 是與你有益的。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 你若作惡， 卻當懼怕。 因為他不是空空的佩劍。 他是神的用人， </a:t>
            </a:r>
            <a:r>
              <a:rPr b="1" lang="zh-TW" sz="2800" spc="-1" strike="noStrike">
                <a:solidFill>
                  <a:srgbClr val="ff9933"/>
                </a:solidFill>
                <a:latin typeface="新細明體"/>
              </a:rPr>
              <a:t>是伸冤的， 刑罰那作惡的。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所以你們必須順服， 不但是因為刑罰， 也是因為良心。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(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羅馬書 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13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︰</a:t>
            </a:r>
            <a:r>
              <a:rPr b="1" lang="zh-TW" sz="2800" spc="-1" strike="noStrike">
                <a:solidFill>
                  <a:srgbClr val="ffffff"/>
                </a:solidFill>
                <a:latin typeface="新細明體"/>
              </a:rPr>
              <a:t>5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你要題醒眾人，叫他們</a:t>
            </a:r>
            <a:r>
              <a:rPr b="1" lang="zh-TW" sz="3200" spc="-1" strike="noStrike">
                <a:solidFill>
                  <a:srgbClr val="ff9933"/>
                </a:solidFill>
                <a:latin typeface="新細明體"/>
              </a:rPr>
              <a:t>順服作官的，掌權的，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遵他的命，</a:t>
            </a:r>
            <a:r>
              <a:rPr b="1" lang="zh-TW" sz="3200" spc="-1" strike="noStrike">
                <a:solidFill>
                  <a:srgbClr val="ff9933"/>
                </a:solidFill>
                <a:latin typeface="新細明體"/>
              </a:rPr>
              <a:t>豫備行各樣的善事。不要毀謗，不要爭競， 總要和平， 向眾人大顯溫柔。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(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多 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3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︰</a:t>
            </a: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1-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問題討論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你認同布殊的言論嗎？為什麼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ff"/>
                </a:solidFill>
                <a:latin typeface="新細明體"/>
              </a:rPr>
              <a:t>基督徒一定要反戰嗎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2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7" dur="2000"/>
                                        <p:tgtEl>
                                          <p:spTgt spid="6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" dur="2000"/>
                                        <p:tgtEl>
                                          <p:spTgt spid="6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ffff"/>
                </a:solidFill>
                <a:latin typeface="Arial"/>
              </a:rPr>
              <a:t>時事週－美伊戰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透過週會，可讓團友對此場戰爭有初步的認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Arial"/>
              </a:rPr>
              <a:t>讓團友討論和分析此場戰爭，並了解基督徒如何回應此時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66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“</a:t>
            </a: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不可殺人”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 出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20:13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戰爭一定牽渉殺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6666ff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「他必在列國中施行審判，為許多國民斷定是非。他們要將刀打成犁頭，把槍打成鐮刀；這國不舉刀攻擊那國，他們也不再學習戰事。」以賽亞書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2:4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 </a:t>
            </a: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神對世上國家的心意是要解除武裝，和平共處，不再互相攻伐殺戮</a:t>
            </a:r>
            <a:r>
              <a:rPr b="1" lang="zh-TW" sz="3200" spc="-1" strike="noStrike">
                <a:solidFill>
                  <a:srgbClr val="6666ff"/>
                </a:solidFill>
                <a:latin typeface="Verdana"/>
              </a:rPr>
              <a:t>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66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Verdana"/>
              </a:rPr>
              <a:t>神的心意是天地之間都能和諧共處</a:t>
            </a: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	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「豺狼必與綿羊羔同居、豹子與山羊羔同臥。少壯獅子、與牛犢、並肥畜同群．小孩子要牽引他們。 牛必與熊同食。牛犢必與小熊同臥。獅子必喫草與牛一樣。 喫奶的孩子必玩耍在虺蛇的洞口、斷奶的嬰兒必按手在毒蛇的穴上。 在我聖山的遍處、這一切都不傷人、不害物．因為認識耶和華的知識要充滿遍地、好像水充滿洋海一般。」以賽亞書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1:6-9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4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400" fill="hold"/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4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00" fill="hold"/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神並不贊成用武力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約書亞記六章－神帶領以色人入迦南地，但並不表示神贊成用武力。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e.g.: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攻打耶利哥城時之事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Verdana"/>
              </a:rPr>
              <a:t>神自然會帶領我得勝，用暴力是對神不信任的表現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耶穌在十架寧願接受别人暴力，也不以暴易暴。被宰殺的羔羊卻要在世上作王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(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啟示錄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99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4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400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400" fill="hold"/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4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4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400" fill="hold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00" fill="hold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99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3516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新細明體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800080"/>
                </a:solidFill>
                <a:latin typeface="新細明體"/>
              </a:rPr>
              <a:t>要以善報惡，自己國家被侵略也不可發動動力戰爭抵抗，用外交及其他和平方式解決問題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6699"/>
                </a:solidFill>
                <a:latin typeface="新細明體"/>
              </a:rPr>
              <a:t>	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「你們聽見有話說：‘</a:t>
            </a:r>
            <a:r>
              <a:rPr b="1" lang="zh-TW" sz="2400" spc="-1" strike="noStrike" u="sng">
                <a:solidFill>
                  <a:srgbClr val="6666ff"/>
                </a:solidFill>
                <a:uFillTx/>
                <a:latin typeface="新細明體"/>
              </a:rPr>
              <a:t>以眼還眼，以牙還牙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。’只是我告訴你們：不要與惡人作對。有人打你的右臉，連左臉也轉過來由他打； 有人想要告你，要拿你的裡衣，連外衣也由他拿去； 有人</a:t>
            </a:r>
            <a:r>
              <a:rPr b="1" lang="zh-TW" sz="2400" spc="-1" strike="noStrike" u="sng">
                <a:solidFill>
                  <a:srgbClr val="6666ff"/>
                </a:solidFill>
                <a:uFillTx/>
                <a:latin typeface="新細明體"/>
              </a:rPr>
              <a:t>強逼你走一里路，你就同他走二里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； 你們聽見有話說：‘當愛你的鄰舍，恨你的仇敵。’只是我告訴你們：要愛你們的仇敵，為那逼迫你們的禱告。」 </a:t>
            </a:r>
            <a:r>
              <a:rPr b="0" lang="zh-TW" sz="2400" spc="-1" strike="noStrike">
                <a:solidFill>
                  <a:srgbClr val="6666ff"/>
                </a:solidFill>
                <a:latin typeface="新細明體"/>
              </a:rPr>
              <a:t> 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馬太福音</a:t>
            </a:r>
            <a:r>
              <a:rPr b="1" lang="zh-TW" sz="2400" spc="-1" strike="noStrike">
                <a:solidFill>
                  <a:srgbClr val="6666ff"/>
                </a:solidFill>
                <a:latin typeface="新細明體"/>
              </a:rPr>
              <a:t>5:38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4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400" fill="hold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400" fill="hold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400" fill="hold"/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99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耶穌命彼得收刀入鞘，不可用暴力來保護祂，可見發動戰爭並不是保衛國家的正當方法。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「有跟隨耶穌的一個人，伸手拔出刀來，將大祭司的僕人砍了一刀，削掉了他一個耳朵。耶穌對他說：“</a:t>
            </a:r>
            <a:r>
              <a:rPr b="1" lang="zh-TW" sz="2800" spc="-1" strike="noStrike" u="sng">
                <a:solidFill>
                  <a:srgbClr val="6666ff"/>
                </a:solidFill>
                <a:uFillTx/>
                <a:latin typeface="新細明體"/>
              </a:rPr>
              <a:t>收刀入鞘吧！凡動刀的，必死在刀下。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你想，我不能求我父現在為我差遣十二營多天使來嗎？ 」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4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400" fill="hold"/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3399"/>
                </a:solidFill>
                <a:latin typeface="Verdana"/>
              </a:rPr>
              <a:t>和平主義的論點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00"/>
              </a:spcBef>
              <a:buClr>
                <a:srgbClr val="800080"/>
              </a:buClr>
              <a:buFont typeface="新細明體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耶穌身處在革命時代，卻堅拒用武力革命的方式，而是用奴僕的工作來建立神的國。</a:t>
            </a:r>
            <a:r>
              <a:rPr b="1" lang="zh-TW" sz="2800" spc="-1" strike="noStrike">
                <a:solidFill>
                  <a:srgbClr val="006699"/>
                </a:solidFill>
                <a:latin typeface="新細明體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4211640" y="3573360"/>
            <a:ext cx="352728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4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400" fill="hold"/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6666"/>
                </a:solidFill>
                <a:latin typeface="Verdana"/>
              </a:rPr>
              <a:t>聖經有限度接受戰爭？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在舊約中，神率領以色列作戰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以色列人進入迦南地是要透過戰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耶穌有時也不是全用勸導說服敵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約翰福音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2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︰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3-15~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潔淨聖殿一事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施洗約翰與士兵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“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不要以強暴待人，也不要訛詐人，自己有錢糧就當知足”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(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路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3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︰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4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6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6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6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6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6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順服政府的掌權者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因為他是神的用人， 是與你有益的。 你若作惡， 卻當懼怕。 因為他不是空空的佩劍。 他是神的用人， 是伸冤的， 刑罰那作惡的。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(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羅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3:4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800080"/>
              </a:buClr>
              <a:buFont typeface="新細明體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800080"/>
                </a:solidFill>
                <a:latin typeface="新細明體"/>
              </a:rPr>
              <a:t>新約聖經多以戰爭比喻基督徒的生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	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穿戴神的全副軍裝 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(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弗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6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︰</a:t>
            </a:r>
            <a:r>
              <a:rPr b="1" lang="zh-TW" sz="2800" spc="-1" strike="noStrike">
                <a:solidFill>
                  <a:srgbClr val="6666ff"/>
                </a:solidFill>
                <a:latin typeface="新細明體"/>
              </a:rPr>
              <a:t>10-20)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6666"/>
                </a:solidFill>
                <a:latin typeface="Verdana"/>
              </a:rPr>
              <a:t>聖經有限度接受戰爭？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6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6666"/>
                </a:solidFill>
                <a:latin typeface="Verdana"/>
              </a:rPr>
              <a:t>什麼是有限度的戰爭？？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1042920" y="2133720"/>
            <a:ext cx="691380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有限度的戰爭</a:t>
            </a: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=</a:t>
            </a: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新細明體"/>
              </a:rPr>
              <a:t>正義之戰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新細明體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ffff"/>
                </a:solidFill>
                <a:latin typeface="Arial"/>
              </a:rPr>
              <a:t>正義戰爭的來源</a:t>
            </a: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第四世紀，奧古斯丁在便先啟其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十二世紀，格拉典      將正義戰爭加以系統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到了中世紀末期，正義戰爭已成為思想界的共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天主教官方的立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十六世紀的宗教改革，大部分的基督徒宗派也是接受正戰爭論。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356000" y="2276640"/>
            <a:ext cx="433440" cy="431640"/>
          </a:xfrm>
          <a:prstGeom prst="rightArrow">
            <a:avLst>
              <a:gd name="adj1" fmla="val 50000"/>
              <a:gd name="adj2" fmla="val 251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6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6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6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6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2" name=""/>
          <p:cNvGraphicFramePr/>
          <p:nvPr/>
        </p:nvGraphicFramePr>
        <p:xfrm>
          <a:off x="395280" y="1989000"/>
          <a:ext cx="5256360" cy="4032360"/>
        </p:xfrm>
        <a:graphic>
          <a:graphicData uri="http://schemas.openxmlformats.org/drawingml/2006/table">
            <a:tbl>
              <a:tblPr/>
              <a:tblGrid>
                <a:gridCol w="1055520"/>
                <a:gridCol w="4200840"/>
              </a:tblGrid>
              <a:tr h="159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國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伊拉克共和國（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The Republic of Iraq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首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巴格達（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Baghdad)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面積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44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萬平方公里 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(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面積約為香港的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40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3" name=""/>
          <p:cNvSpPr/>
          <p:nvPr/>
        </p:nvSpPr>
        <p:spPr>
          <a:xfrm>
            <a:off x="1835280" y="76500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3600" spc="-1" strike="noStrike">
                <a:solidFill>
                  <a:srgbClr val="000099"/>
                </a:solidFill>
                <a:latin typeface="Times New Roman"/>
              </a:rPr>
              <a:t>伊拉克基本資料</a:t>
            </a:r>
            <a:r>
              <a:rPr b="0" lang="zh-TW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"/>
          <a:stretch/>
        </p:blipFill>
        <p:spPr>
          <a:xfrm>
            <a:off x="5580000" y="2781360"/>
            <a:ext cx="3003480" cy="324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ffff"/>
                </a:solidFill>
                <a:latin typeface="Arial"/>
              </a:rPr>
              <a:t>正義戰爭的內容</a:t>
            </a: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00"/>
                </a:solidFill>
                <a:latin typeface="Arial"/>
              </a:rPr>
              <a:t>開戰條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開戰原因正當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由最高權威人士批准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戰爭是解決問題的最後途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戰爭的成功機會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Arial"/>
              </a:rPr>
              <a:t>衡量戰爭的得失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6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6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6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66ffff"/>
                </a:solidFill>
                <a:latin typeface="Arial"/>
              </a:rPr>
              <a:t>正義戰爭的內容</a:t>
            </a:r>
            <a:r>
              <a:rPr b="1" lang="en-GB" sz="4400" spc="-1" strike="noStrike">
                <a:solidFill>
                  <a:srgbClr val="66ffff"/>
                </a:solidFill>
                <a:latin typeface="Arial"/>
              </a:rPr>
              <a:t>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沙場守則 </a:t>
            </a:r>
            <a:r>
              <a:rPr b="1" lang="en-GB" sz="3200" spc="-1" strike="noStrike">
                <a:solidFill>
                  <a:srgbClr val="ffff00"/>
                </a:solidFill>
                <a:latin typeface="新細明體"/>
              </a:rPr>
              <a:t>(</a:t>
            </a: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即戰場上的守則</a:t>
            </a:r>
            <a:r>
              <a:rPr b="1" lang="en-GB" sz="3200" spc="-1" strike="noStrike">
                <a:solidFill>
                  <a:srgbClr val="ffff00"/>
                </a:solidFill>
                <a:latin typeface="新細明體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ff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ffff00"/>
                </a:solidFill>
                <a:latin typeface="新細明體"/>
              </a:rPr>
              <a:t>堅守“分辨原則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ffff00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00"/>
                </a:solidFill>
                <a:latin typeface="新細明體"/>
              </a:rPr>
              <a:t>分辨出非軍事設施、非戰鬥人員不可蓄意破壞和傷害。</a:t>
            </a:r>
            <a:r>
              <a:rPr b="0" lang="zh-TW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dbbd71"/>
                </a:solidFill>
                <a:latin typeface="Arial"/>
              </a:rPr>
              <a:t>美伊之戰</a:t>
            </a:r>
            <a:r>
              <a:rPr b="0" lang="zh-TW" sz="4400" spc="-1" strike="noStrike">
                <a:solidFill>
                  <a:srgbClr val="dbbd71"/>
                </a:solidFill>
                <a:latin typeface="Arial"/>
              </a:rPr>
              <a:t>=</a:t>
            </a:r>
            <a:r>
              <a:rPr b="0" lang="zh-TW" sz="4400" spc="-1" strike="noStrike">
                <a:solidFill>
                  <a:srgbClr val="dbbd71"/>
                </a:solidFill>
                <a:latin typeface="Arial"/>
              </a:rPr>
              <a:t>正義戰爭？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美國開戰的原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ff0066"/>
                </a:solidFill>
                <a:latin typeface="新細明體"/>
              </a:rPr>
              <a:t>美國以戰爭真的能達到“反恐”的目的嗎？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戰爭是最後的途徑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ff0066"/>
                </a:solidFill>
                <a:latin typeface="新細明體"/>
              </a:rPr>
              <a:t>伊拉克對核查方案，漸見讓步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最高權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0066"/>
                </a:solidFill>
                <a:latin typeface="新細明體"/>
              </a:rPr>
              <a:t>	</a:t>
            </a:r>
            <a:r>
              <a:rPr b="0" lang="zh-TW" sz="2800" spc="-1" strike="noStrike">
                <a:solidFill>
                  <a:srgbClr val="ff0066"/>
                </a:solidFill>
                <a:latin typeface="新細明體"/>
              </a:rPr>
              <a:t>聯合國並不批准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88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9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49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1000"/>
                                        <p:tgtEl>
                                          <p:spTgt spid="6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6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6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6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6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5" name=""/>
          <p:cNvGraphicFramePr/>
          <p:nvPr/>
        </p:nvGraphicFramePr>
        <p:xfrm>
          <a:off x="900000" y="981000"/>
          <a:ext cx="7343640" cy="4741920"/>
        </p:xfrm>
        <a:graphic>
          <a:graphicData uri="http://schemas.openxmlformats.org/drawingml/2006/table">
            <a:tbl>
              <a:tblPr/>
              <a:tblGrid>
                <a:gridCol w="1942920"/>
                <a:gridCol w="5400720"/>
              </a:tblGrid>
              <a:tr h="186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人口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約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224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萬人，主要為阿拉伯人，佔整體人口約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75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，而庫爾德人亦佔約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20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官方語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阿拉伯語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宗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九成半人口信奉伊斯蘭教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工作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41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從事農業；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17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從事工業；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41%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從事服務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684360" y="549360"/>
          <a:ext cx="7991280" cy="5638680"/>
        </p:xfrm>
        <a:graphic>
          <a:graphicData uri="http://schemas.openxmlformats.org/drawingml/2006/table">
            <a:tbl>
              <a:tblPr/>
              <a:tblGrid>
                <a:gridCol w="1295280"/>
                <a:gridCol w="6696000"/>
              </a:tblGrid>
              <a:tr h="563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簡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伊拉克有著悠久的歷史。公元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200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元建立了巴比倫王國，為四大文明古國之一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其後，先後被波斯人、阿拉伯帝國、蒙古及奧圖曼帝國入侵及統治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2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年成為英國「委任統治區」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38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年獲得完全獨立。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58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年成立伊拉克共和國。</a:t>
                      </a:r>
                      <a:br>
                        <a:rPr sz="3200"/>
                      </a:b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更多資料：伊拉克大事紀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7" name=""/>
          <p:cNvGraphicFramePr/>
          <p:nvPr/>
        </p:nvGraphicFramePr>
        <p:xfrm>
          <a:off x="539640" y="341280"/>
          <a:ext cx="8209080" cy="5932440"/>
        </p:xfrm>
        <a:graphic>
          <a:graphicData uri="http://schemas.openxmlformats.org/drawingml/2006/table">
            <a:tbl>
              <a:tblPr/>
              <a:tblGrid>
                <a:gridCol w="1295640"/>
                <a:gridCol w="6913440"/>
              </a:tblGrid>
              <a:tr h="59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政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伊拉克現時的執政黨為阿拉伯復興社會黨，黨總書記薩達姆‧侯賽因自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1979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年接管政權，現為伊拉克總統，兼任國家總理。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198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年，伊拉克與伊朗因邊界糾紛引發歷時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8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年的兩伊戰爭，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199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年又因侵略科威特，引發海灣戰爭，現仍為聯合國制裁。</a:t>
                      </a:r>
                      <a:br>
                        <a:rPr sz="3200"/>
                      </a:b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Times New Roman"/>
                        </a:rPr>
                        <a:t>國內，伊拉克政府一直鎮壓庫爾德人的獨立運動，以及什葉派回教徒的反政府活動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8" name=""/>
          <p:cNvGraphicFramePr/>
          <p:nvPr/>
        </p:nvGraphicFramePr>
        <p:xfrm>
          <a:off x="395280" y="907920"/>
          <a:ext cx="8280360" cy="4861080"/>
        </p:xfrm>
        <a:graphic>
          <a:graphicData uri="http://schemas.openxmlformats.org/drawingml/2006/table">
            <a:tbl>
              <a:tblPr/>
              <a:tblGrid>
                <a:gridCol w="1806480"/>
                <a:gridCol w="6473880"/>
              </a:tblGrid>
              <a:tr h="486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資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伊拉克的石油及天然氣資源豐富。伊國石油藏量為全球第二大，僅次於沙特阿拉伯，而且大多是未經開發的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此外，伊拉克中部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幼發拉底河和底格里斯河流域地區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－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一直是國家主要的農業地區，大部分人口都聚居此地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9" name=""/>
          <p:cNvGraphicFramePr/>
          <p:nvPr/>
        </p:nvGraphicFramePr>
        <p:xfrm>
          <a:off x="395280" y="1197000"/>
          <a:ext cx="8280360" cy="2427120"/>
        </p:xfrm>
        <a:graphic>
          <a:graphicData uri="http://schemas.openxmlformats.org/drawingml/2006/table">
            <a:tbl>
              <a:tblPr/>
              <a:tblGrid>
                <a:gridCol w="1584360"/>
                <a:gridCol w="6696000"/>
              </a:tblGrid>
              <a:tr h="242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經濟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9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伊拉克入侵科威特後，伊拉克一直受到聯合國的經濟制裁，除了凍結了伊在海外的資產以外，伊拉克對外經貿亦受到限制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0" name=""/>
          <p:cNvSpPr/>
          <p:nvPr/>
        </p:nvSpPr>
        <p:spPr>
          <a:xfrm>
            <a:off x="1099440" y="4581360"/>
            <a:ext cx="7268760" cy="10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(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資料來源：世界知識年鑑，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2002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；中華人民共和國外交部網站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2002 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網址為：</a:t>
            </a:r>
            <a:r>
              <a:rPr b="1" lang="zh-TW" sz="2400" spc="-1" strike="noStrike">
                <a:solidFill>
                  <a:srgbClr val="9900cc"/>
                </a:solidFill>
                <a:latin typeface="Times New Roman"/>
              </a:rPr>
              <a:t>http://www..fmprc.gov.cn/chn/6616.htm1)</a:t>
            </a:r>
            <a:r>
              <a:rPr b="0" lang="zh-TW" sz="2400" spc="-1" strike="noStrike">
                <a:solidFill>
                  <a:srgbClr val="99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800" spc="-1" strike="noStrike">
                <a:solidFill>
                  <a:srgbClr val="ff3399"/>
                </a:solidFill>
                <a:latin typeface="Arial Unicode MS"/>
                <a:ea typeface="Arial Unicode MS"/>
              </a:rPr>
              <a:t>美伊衝突事件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755640" y="1484280"/>
          <a:ext cx="7561440" cy="4951440"/>
        </p:xfrm>
        <a:graphic>
          <a:graphicData uri="http://schemas.openxmlformats.org/drawingml/2006/table">
            <a:tbl>
              <a:tblPr/>
              <a:tblGrid>
                <a:gridCol w="1368720"/>
                <a:gridCol w="6192720"/>
              </a:tblGrid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分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重要事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  <a:ea typeface="Arial Unicode MS"/>
                        </a:rPr>
                        <a:t>1990</a:t>
                      </a: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伊拉克以科威特夥同阿聯酋超產石油，導致油價下跌，以及在有領土爭端的油田盜採石油為由，攻佔科威特。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spcBef>
                          <a:spcPts val="799"/>
                        </a:spcBef>
                        <a:buClr>
                          <a:srgbClr val="ccccff"/>
                        </a:buClr>
                        <a:buSzPct val="80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9900cc"/>
                          </a:solidFill>
                          <a:latin typeface="新細明體"/>
                        </a:rPr>
                        <a:t>國際社會紛紛譴責伊拉克，要求伊立即撤軍。聯合國安理會通過決議，決定經濟制裁伊拉克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3T14:41:48Z</dcterms:created>
  <dc:creator>LING</dc:creator>
  <dc:description/>
  <dc:language>en-US</dc:language>
  <cp:lastModifiedBy>LING</cp:lastModifiedBy>
  <dcterms:modified xsi:type="dcterms:W3CDTF">2003-03-25T17:04:55Z</dcterms:modified>
  <cp:revision>12</cp:revision>
  <dc:subject/>
  <dc:title>正義戰爭的來源︰</dc:title>
</cp:coreProperties>
</file>