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3.wmf" ContentType="image/x-wmf"/>
  <Override PartName="/ppt/media/image2.png" ContentType="image/png"/>
  <Override PartName="/ppt/media/image4.jpeg" ContentType="image/jpe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CCA93-DCF2-4B2A-8FE4-974967A7B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06640" y="666720"/>
            <a:ext cx="4644720" cy="34844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05040" y="4373640"/>
            <a:ext cx="5047920" cy="407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s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6640" y="666720"/>
            <a:ext cx="4644720" cy="34844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05040" y="4373640"/>
            <a:ext cx="5047920" cy="407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s tentmaker sp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85B4-5F89-49BF-A4D6-A574B901E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A2E5-794B-46C1-85B2-F80B4424B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0C4F-2129-4164-9E8E-0C3B389F1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E62C-D586-4C3E-A1A5-482A0E786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5616-FEDF-4402-96BD-72A8E73A3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F85E-61D1-449F-AA09-331DF29DF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7055-F15E-4E9D-80D8-5F6BDCCD7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903D-A978-425F-9A8B-DEFC96274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8692-1815-4CC6-9EF7-D6BC405C9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8215-33FA-4D3E-831F-E91F0A26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14A4-C355-45A7-A2D3-1BABBB2C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5D89-23F1-43F9-813E-6A09376A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B7405-028C-4011-9EA1-BA01619FA0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mi.org/products/1040_g.htm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198108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entmakers are missions-committed Christians who work in secular jobs in order to reach another people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809880"/>
            <a:ext cx="7772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ey communicate the gospel by word and deed through excellence in work, caring relationships, and well chosen comments about God in the context of everyday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46128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Global Opportun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72200" y="64008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www.globalopps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533520"/>
            <a:ext cx="7238880" cy="761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Square721 BT"/>
              </a:rPr>
              <a:t>Tentmaker defini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609480" y="53352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rofessional preparation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1828800"/>
            <a:ext cx="441972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rive for excell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5334120"/>
            <a:ext cx="777240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earn to integrate work &amp; mini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4327560"/>
            <a:ext cx="579132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ecome involved at h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2833560"/>
            <a:ext cx="7772400" cy="1068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earn to network to be effective in your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64008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your way”,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Jonathan Lew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marketable skill, preferably with some years of experie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good relationship with God and – this is vital – a sustained prayer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ood biblical knowled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growing ability to witness for Christ with ministry skills in evangelism, teaching and disciplesh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concern for people who don’t know Jesus and a sense of call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rowing self-acceptance, love for others and a servant heart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3520" y="304920"/>
            <a:ext cx="8153280" cy="6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at Other Qualities Do We Need?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30456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biblical perspective on issues relevant to work, ethics and social mat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n excitement about other cultures, or at least an awareness that we need to understand other cul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flexible and adaptable approach to others who are diffe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Respect for other Christian workers with different roles and perceptions of minis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n ability to set objectives realistically, while being open to God’s unexpected demands and provi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ood physical and psychological heal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The ability to cope with culture stress, family stress, isolation and lonelines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8080" y="304920"/>
            <a:ext cx="7696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Integrate work &amp; ministry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762120" y="1523880"/>
          <a:ext cx="7772400" cy="4667400"/>
        </p:xfrm>
        <a:graphic>
          <a:graphicData uri="http://schemas.openxmlformats.org/drawingml/2006/table">
            <a:tbl>
              <a:tblPr/>
              <a:tblGrid>
                <a:gridCol w="1344600"/>
                <a:gridCol w="2762280"/>
                <a:gridCol w="388800"/>
                <a:gridCol w="3276720"/>
              </a:tblGrid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2362320" y="2057400"/>
            <a:ext cx="2361960" cy="7034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Minis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62320" y="3276720"/>
            <a:ext cx="2361960" cy="31802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Wor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86400" y="2057400"/>
            <a:ext cx="2895480" cy="50000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Minis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Wor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63388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Sep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91320" y="63388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6400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g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609480" y="533520"/>
            <a:ext cx="80010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yths about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190512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an easy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90720" y="348156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for people who only want to commit themselves short te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269244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only part-time missionary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548640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Any Christian working overseas is a                           tent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469728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 doesn’t require rigorous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2209680"/>
            <a:ext cx="7848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ffffff"/>
                </a:solidFill>
                <a:latin typeface="Tahoma"/>
              </a:rPr>
              <a:t>Tentmaking is only an alternative for those who have been called to the mission field but lack faith in God for economic suppo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2666880"/>
            <a:ext cx="784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ffffff"/>
                </a:solidFill>
                <a:latin typeface="Tahoma"/>
              </a:rPr>
              <a:t>Tentmakers are deceptive since they are ”missionaries in disguise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2514600"/>
            <a:ext cx="78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ff"/>
                </a:solidFill>
                <a:latin typeface="Tahoma"/>
              </a:rPr>
              <a:t>It promotes individualism and disunity in the body of Christ, since they are able to move abroad without the blessing of their home assembl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762120" y="533520"/>
            <a:ext cx="76197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Disadvantage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"/>
          <p:cNvSpPr/>
          <p:nvPr/>
        </p:nvSpPr>
        <p:spPr>
          <a:xfrm>
            <a:off x="1981080" y="20574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Limited religious freed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38401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Relatively short st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81080" y="291780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Mobility restri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81080" y="47005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Time 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640080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81080" y="556272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Lack of accoun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762120" y="533520"/>
            <a:ext cx="76197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dvantage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205740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More entry visas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354960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Building natural bridges with natio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28036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Greater acceptance by host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429732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Being models for national belie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3520" y="579132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Able to help national ”church” with fin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504360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Job satisf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6461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0" y="838080"/>
            <a:ext cx="81532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e tentmaker today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4" name=""/>
          <p:cNvSpPr/>
          <p:nvPr/>
        </p:nvSpPr>
        <p:spPr>
          <a:xfrm>
            <a:off x="1523880" y="2362320"/>
            <a:ext cx="2210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2895480"/>
            <a:ext cx="4267080" cy="2775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Hamilton tentmaker survey shows us that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477120"/>
            <a:ext cx="54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Tentmakers speak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Don Hamil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827680" y="1981080"/>
            <a:ext cx="3011400" cy="4724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533520" y="198072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ack of understanding by parents and fri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lden opportunities for advancement on the present 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pparent needs in the home church that one could f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nancial problems Health impair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09480" y="457200"/>
            <a:ext cx="8077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at Others Have Faced Before Go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ear of academic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eneral lure of the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eelings of inadequ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ubt of God’s w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due concern about children’s welfare and schoo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sunderstanding of mission board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tionalized desire to be a homeland promoter sending others to the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04920" y="5105520"/>
            <a:ext cx="883908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…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I looked and there before me was a great multitude that no one could count,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from every nation, tribe, people and language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, standing before the throne…. They were wearing white robes….” 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Revelation 7:9 </a:t>
            </a:r>
            <a:r>
              <a:rPr b="0" lang="en-CA" sz="16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457200"/>
            <a:ext cx="8458200" cy="13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Be strong and courageous. Do not be terrified; do not be discouraged, for the Lord your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God will be with you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wherever you go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.” 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(Joshua 1:9 </a:t>
            </a:r>
            <a:r>
              <a:rPr b="0" lang="en-CA" sz="1600" spc="-1" strike="noStrike">
                <a:solidFill>
                  <a:srgbClr val="ffffff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1981080"/>
            <a:ext cx="8534160" cy="8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Therefore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go and make disciples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of all n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cc99"/>
                </a:solidFill>
                <a:latin typeface="Tahoma"/>
              </a:rPr>
              <a:t>[Greek for peoples]</a:t>
            </a:r>
            <a:r>
              <a:rPr b="0" lang="en-CA" sz="2400" spc="-1" strike="noStrike">
                <a:solidFill>
                  <a:srgbClr val="ffff00"/>
                </a:solidFill>
                <a:latin typeface="Tahoma"/>
              </a:rPr>
              <a:t>….”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Matthew 28:19 </a:t>
            </a:r>
            <a:r>
              <a:rPr b="0" lang="en-CA" sz="14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3124080"/>
            <a:ext cx="87631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And this gospel of the kingdom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will be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preached in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the whole world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as a testimony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to all nations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CA" sz="2400" spc="-1" strike="noStrike">
                <a:solidFill>
                  <a:srgbClr val="ffcc99"/>
                </a:solidFill>
                <a:latin typeface="Tahoma"/>
              </a:rPr>
              <a:t>[Greek for peoples]</a:t>
            </a:r>
            <a:r>
              <a:rPr b="0" lang="en-CA" sz="2800" spc="-1" strike="noStrike">
                <a:solidFill>
                  <a:srgbClr val="ffcc99"/>
                </a:solidFill>
                <a:latin typeface="Tahoma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, and then the end will come.”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                                          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Matthew 24:14 </a:t>
            </a:r>
            <a:r>
              <a:rPr b="0" lang="en-CA" sz="16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17680" y="1590840"/>
            <a:ext cx="1463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447920"/>
            <a:ext cx="868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2.   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Main reason for going was to share the Gosp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457200"/>
            <a:ext cx="838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1.   Led an evangelistic Bible study before go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468520"/>
            <a:ext cx="8382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3.   </a:t>
            </a: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Believed God called them to be Tentmak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34732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4.   Had actively shared their faith at 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447984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5.   Had strong relationship with home chu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5486400"/>
            <a:ext cx="77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6.   Recruited others to be Tentma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646128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Tentmakers speak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Don Hamil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Four Religious Block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240320" y="4191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29400" y="38862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43600" y="28195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76920" y="251460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22096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76920" y="19810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52880" y="182880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95680" y="18288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67080" y="19051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14800" y="22860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1280" y="228600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57600" y="2743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91120" y="28195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67080" y="304812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87280" y="32767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63600" y="36576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33360" y="3184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30080" y="32767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2880" y="26668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77800" y="24382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53760" y="22096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9320" y="19652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47560" y="25750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42640" y="3184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42640" y="22701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61760" y="26510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09120" y="31082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04560" y="23464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51920" y="30322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99640" y="27273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3320" y="33368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51920" y="35654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0112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715000" y="762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56+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15000" y="23623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/3 of the world’s peo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51055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97 % of those who have not he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15000" y="342900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82 % of the poorest of the p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571500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ess than 3% of  the missio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646128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AD 2000 &amp; Operation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5105160" cy="3960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715000" y="16002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.9 billion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44956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ampant persecution of Christians ~ 200,000/y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4419720"/>
            <a:ext cx="205740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22 / hr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523880" y="1390680"/>
          <a:ext cx="6097680" cy="40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0680"/>
                    <a:ext cx="609768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914400" y="1676520"/>
          <a:ext cx="6629400" cy="378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676520"/>
                    <a:ext cx="6629400" cy="37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905120" y="53341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Local chu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53341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Traditional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53341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Frontier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05120" y="2209680"/>
            <a:ext cx="99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95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86200" y="4114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4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15000" y="4114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0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219320" y="533520"/>
            <a:ext cx="6629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Church spending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762120" y="609480"/>
            <a:ext cx="76960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o can be a tentmaker?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"/>
          <p:cNvSpPr/>
          <p:nvPr/>
        </p:nvSpPr>
        <p:spPr>
          <a:xfrm>
            <a:off x="1676520" y="1981080"/>
            <a:ext cx="297180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Stud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2971800"/>
            <a:ext cx="3657600" cy="1191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Professionals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&amp; laym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09680" y="4495680"/>
            <a:ext cx="221004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Famil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24480" y="2209680"/>
            <a:ext cx="221004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Sing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67280" y="3505320"/>
            <a:ext cx="236232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Retir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2520" y="5486400"/>
            <a:ext cx="220968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Cou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3" action="ppaction://hlinksldjump"/>
          </p:cNvPr>
          <p:cNvSpPr/>
          <p:nvPr/>
        </p:nvSpPr>
        <p:spPr>
          <a:xfrm>
            <a:off x="1295280" y="2133720"/>
            <a:ext cx="40032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4" action="ppaction://hlinksldjump"/>
          </p:cNvPr>
          <p:cNvSpPr/>
          <p:nvPr/>
        </p:nvSpPr>
        <p:spPr>
          <a:xfrm>
            <a:off x="5638680" y="2362320"/>
            <a:ext cx="40032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5" action="ppaction://hlinksldjump"/>
          </p:cNvPr>
          <p:cNvSpPr/>
          <p:nvPr/>
        </p:nvSpPr>
        <p:spPr>
          <a:xfrm>
            <a:off x="5257800" y="3657600"/>
            <a:ext cx="39996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6" action="ppaction://hlinksldjump"/>
          </p:cNvPr>
          <p:cNvSpPr/>
          <p:nvPr/>
        </p:nvSpPr>
        <p:spPr>
          <a:xfrm>
            <a:off x="457200" y="3124080"/>
            <a:ext cx="399960" cy="4003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7" action="ppaction://hlinksldjump"/>
          </p:cNvPr>
          <p:cNvSpPr/>
          <p:nvPr/>
        </p:nvSpPr>
        <p:spPr>
          <a:xfrm>
            <a:off x="1600200" y="4572000"/>
            <a:ext cx="39996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8" action="ppaction://hlinksldjump"/>
          </p:cNvPr>
          <p:cNvSpPr/>
          <p:nvPr/>
        </p:nvSpPr>
        <p:spPr>
          <a:xfrm>
            <a:off x="3276720" y="5638680"/>
            <a:ext cx="399960" cy="4003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09480" y="53352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piritual preparation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182880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evelop home sup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19320" y="26668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the Bi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358128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to pr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44197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evangel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43400" y="54100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disciple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64008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your way”,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Jonathan Lew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8T14:45:44Z</dcterms:created>
  <dc:creator>Chan</dc:creator>
  <dc:description/>
  <dc:language>en-US</dc:language>
  <cp:lastModifiedBy>Chan</cp:lastModifiedBy>
  <dcterms:modified xsi:type="dcterms:W3CDTF">2003-06-28T17:27:21Z</dcterms:modified>
  <cp:revision>10</cp:revision>
  <dc:subject/>
  <dc:title>PowerPoint Presentation</dc:title>
</cp:coreProperties>
</file>