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3.wmf" ContentType="image/x-wmf"/>
  <Override PartName="/ppt/media/image2.png" ContentType="image/png"/>
  <Override PartName="/ppt/media/image4.jpeg" ContentType="image/jpeg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23BE-C1F7-4E90-9B46-BBBC554275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6640" y="666720"/>
            <a:ext cx="4644720" cy="3484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05040" y="4373640"/>
            <a:ext cx="5047920" cy="40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s tentmaker spea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166-9407-4D34-B408-A24B2DEE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A3B5-3976-437D-A334-A9967CE6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1732-D8DF-4AF4-B994-008C9824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4F7-FFEF-4D49-AB82-CB2A1E1C0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8E9F-CC22-41F8-AA28-68876D99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B19B-6267-40EB-87AA-031F94A7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8346-2B0A-4C6A-ACAF-5AF495457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7F23-E1BB-40FC-B546-3797885D3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7CC-17D2-4466-97F5-3E9EACD6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3E82-8839-408C-9114-4156C0A1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082E-3887-4A34-92D6-017B37B3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32C8-A415-47DB-8F08-FBFA0D992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722C-EC08-44CA-A8AA-FC1A3593A7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mi.org/products/1040_g.htm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2.xml"/><Relationship Id="rId8" Type="http://schemas.openxmlformats.org/officeDocument/2006/relationships/slide" Target="slide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1981080"/>
            <a:ext cx="8153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entmakers are missions-committed Christians who work in secular jobs in order to reach another people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809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y communicate the gospel by word and deed through excellence in work, caring relationships, and well chosen comments about God in the context of everyday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6128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Global Opportun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64008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ahoma"/>
              </a:rPr>
              <a:t>www.globalopp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520"/>
            <a:ext cx="7238880" cy="7617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Square721 BT"/>
              </a:rPr>
              <a:t>Tentmaker defini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Profession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1828800"/>
            <a:ext cx="44197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rive for excell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533412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integrate work &amp; minis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4327560"/>
            <a:ext cx="5791320" cy="581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ecome involved at ho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833560"/>
            <a:ext cx="7772400" cy="10688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 to network to be effective in your 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marketable skill, preferably with some years of experienc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ood relationship with God and – this is vital – a sustained prayer lif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biblical knowled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growing ability to witness for Christ with ministry skills in evangelism, teaching and disciplesh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concern for people who don’t know Jesus and a sense of call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rowing self-acceptance, love for others and a servant heart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33520" y="304920"/>
            <a:ext cx="8153280" cy="6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 Qualities Do We Need?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biblical perspective on issues relevant to work, ethics and social mat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excitement about other cultures, or at least an awareness that we need to understand other cul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 flexible and adaptable approach to others who are diffe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Respect for other Christian workers with different roles and perceptions of minis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An ability to set objectives realistically, while being open to God’s unexpected demands and provis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Good physical and psychological heal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NewRomanPS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NewRomanPSMT"/>
                <a:ea typeface="Times New Roman"/>
              </a:rPr>
              <a:t>The ability to cope with culture stress, family stress, isolation and lonelines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304920"/>
            <a:ext cx="7696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Integrate work &amp; ministry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62120" y="1523880"/>
          <a:ext cx="7772400" cy="4667400"/>
        </p:xfrm>
        <a:graphic>
          <a:graphicData uri="http://schemas.openxmlformats.org/drawingml/2006/table">
            <a:tbl>
              <a:tblPr/>
              <a:tblGrid>
                <a:gridCol w="1344600"/>
                <a:gridCol w="2762280"/>
                <a:gridCol w="388800"/>
                <a:gridCol w="3276720"/>
              </a:tblGrid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6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 p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 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2362320" y="2057400"/>
            <a:ext cx="2361960" cy="7034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62320" y="3276720"/>
            <a:ext cx="2361960" cy="31802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486400" y="2057400"/>
            <a:ext cx="2895480" cy="500004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Mini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&amp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or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62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Sepa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791320" y="63388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920" y="64008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609480" y="533520"/>
            <a:ext cx="80010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yths about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90512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an easy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3481560"/>
            <a:ext cx="701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for people who only want to commit themselves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269244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’s only part-time missionary 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48640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ny Christian working overseas is a                           tentma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469728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It doesn’t require rigorous tra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7" name=""/>
          <p:cNvSpPr/>
          <p:nvPr/>
        </p:nvSpPr>
        <p:spPr>
          <a:xfrm>
            <a:off x="914400" y="2209680"/>
            <a:ext cx="7848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ing is only an alternative for those who have been called to the mission field but lack faith in God for economic sup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38080" y="2666880"/>
            <a:ext cx="7848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ffffff"/>
                </a:solidFill>
                <a:latin typeface="Tahoma"/>
              </a:rPr>
              <a:t>Tentmakers are deceptive since they are ”missionaries in disguis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762120" y="533520"/>
            <a:ext cx="77724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Objection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514600"/>
            <a:ext cx="784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ff"/>
                </a:solidFill>
                <a:latin typeface="Tahoma"/>
              </a:rPr>
              <a:t>It promotes individualism and disunity in the body of Christ, since they are able to move abroad without the blessing of their home assemb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400800"/>
            <a:ext cx="57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is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205740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imited religious freed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981080" y="38401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Relatively short st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81080" y="291780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bility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81080" y="4700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Time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6400800"/>
            <a:ext cx="472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556272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Lack of accoun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762120" y="533520"/>
            <a:ext cx="761976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dvantages to tentmak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205740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More entry visas avail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3520" y="354960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uilding natural bridges with natio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803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Greater acceptance by host count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429732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Being models for national believ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57913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Able to help national ”church” with fin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33520" y="504360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fi-FI" sz="2800" spc="-1" strike="noStrike">
                <a:solidFill>
                  <a:srgbClr val="ffffff"/>
                </a:solidFill>
                <a:latin typeface="Tahoma"/>
              </a:rPr>
              <a:t>Job satisf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646128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abroad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Philip Nun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cc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838080"/>
            <a:ext cx="8153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The tentmaker today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2362320"/>
            <a:ext cx="22100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2895480"/>
            <a:ext cx="4267080" cy="2775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The Hamilton tentmaker survey shows us tha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6477120"/>
            <a:ext cx="541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827680" y="1981080"/>
            <a:ext cx="3011400" cy="47246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ack of understanding by parents and frie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lden opportunities for advancement on the present 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pparent needs in the home church that one could f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ancial problems Health impair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457200"/>
            <a:ext cx="8077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at Others Have Faced Before Going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ar of academic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lure of the wor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lings of inadequa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ubt of God’s wi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ndue concern about children’s welfare and schoo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sunderstanding of mission board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tionalized desire to be a homeland promoter sending others to the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5105520"/>
            <a:ext cx="8839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…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I looked and there before me was a great multitude that no one could count,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from every nation, tribe, people and languag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standing before the throne…. They were wearing white robes….” 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Revelation 7:9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457200"/>
            <a:ext cx="8458200" cy="13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Be strong and courageous. Do not be terrified; do not be discouraged, for the Lord your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d will be with you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herever you go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.”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(Joshua 1:9 </a:t>
            </a:r>
            <a:r>
              <a:rPr b="0" lang="en-CA" sz="1600" spc="-1" strike="noStrike">
                <a:solidFill>
                  <a:srgbClr val="ffffff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920" y="1981080"/>
            <a:ext cx="8534160" cy="8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Therefore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go and make disciple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of all na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400" spc="-1" strike="noStrike">
                <a:solidFill>
                  <a:srgbClr val="ffff00"/>
                </a:solidFill>
                <a:latin typeface="Tahoma"/>
              </a:rPr>
              <a:t>….”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8:19 </a:t>
            </a:r>
            <a:r>
              <a:rPr b="0" lang="en-CA" sz="14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3124080"/>
            <a:ext cx="876312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And this gospel of the kingdom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will be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preached in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he whole world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as a testimony </a:t>
            </a:r>
            <a:r>
              <a:rPr b="1" lang="en-CA" sz="2800" spc="-1" strike="noStrike">
                <a:solidFill>
                  <a:srgbClr val="ffff00"/>
                </a:solidFill>
                <a:latin typeface="Tahoma"/>
              </a:rPr>
              <a:t>to all nations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CA" sz="2400" spc="-1" strike="noStrike">
                <a:solidFill>
                  <a:srgbClr val="ffcc99"/>
                </a:solidFill>
                <a:latin typeface="Tahoma"/>
              </a:rPr>
              <a:t>[Greek for peoples]</a:t>
            </a:r>
            <a:r>
              <a:rPr b="0" lang="en-CA" sz="2800" spc="-1" strike="noStrike">
                <a:solidFill>
                  <a:srgbClr val="ffcc99"/>
                </a:solidFill>
                <a:latin typeface="Tahoma"/>
              </a:rPr>
              <a:t> </a:t>
            </a:r>
            <a:r>
              <a:rPr b="0" lang="en-CA" sz="2800" spc="-1" strike="noStrike">
                <a:solidFill>
                  <a:srgbClr val="ffff00"/>
                </a:solidFill>
                <a:latin typeface="Tahoma"/>
              </a:rPr>
              <a:t>, and then the end will come.”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                                          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800" spc="-1" strike="noStrike">
                <a:solidFill>
                  <a:srgbClr val="fffcfa"/>
                </a:solidFill>
                <a:latin typeface="Tahoma"/>
              </a:rPr>
              <a:t>	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(Matthew 24:14 </a:t>
            </a:r>
            <a:r>
              <a:rPr b="0" lang="en-CA" sz="1600" spc="-1" strike="noStrike">
                <a:solidFill>
                  <a:srgbClr val="fffcfa"/>
                </a:solidFill>
                <a:latin typeface="Tahoma"/>
              </a:rPr>
              <a:t>NIV</a:t>
            </a:r>
            <a:r>
              <a:rPr b="0" lang="en-CA" sz="2400" spc="-1" strike="noStrike">
                <a:solidFill>
                  <a:srgbClr val="fffcfa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17680" y="1590840"/>
            <a:ext cx="1463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447920"/>
            <a:ext cx="868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2.   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Main reason for going was to share the Gosp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457200"/>
            <a:ext cx="8382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1.   Led an evangelistic Bible study before go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468520"/>
            <a:ext cx="8382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3.   </a:t>
            </a:r>
            <a:r>
              <a:rPr b="1" lang="en-US" sz="2700" spc="-1" strike="noStrike">
                <a:solidFill>
                  <a:srgbClr val="ffffff"/>
                </a:solidFill>
                <a:latin typeface="Tahoma"/>
              </a:rPr>
              <a:t>Believed God called them to be Tentmak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347328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4.   Had actively shared their faith at 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447984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5.   Had strong relationship with home chu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5486400"/>
            <a:ext cx="77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6.   Recruited others to be Tentma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46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entmakers speak,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Don Hamil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Four Religious Block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7240320" y="4191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629400" y="38862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28195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76920" y="2514600"/>
            <a:ext cx="304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2096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198108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8288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95680" y="182880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67080" y="1905120"/>
            <a:ext cx="22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14800" y="22860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1280" y="228600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57600" y="274320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191120" y="281952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7080" y="3048120"/>
            <a:ext cx="381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872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63600" y="365760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3336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080" y="327672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2880" y="26668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77800" y="2438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353760" y="22096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9320" y="1965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47560" y="25750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2640" y="31845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42640" y="22701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1760" y="26510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09120" y="31082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204560" y="23464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51920" y="303228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9640" y="272736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3320" y="33368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51920" y="3565440"/>
            <a:ext cx="30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112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15000" y="7621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56+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15000" y="2362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2/3 of the world’s peo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9480" y="5105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97 % of those who have not 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342900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82 % of the poorest of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7150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ess than 3% of  the missio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6461280"/>
            <a:ext cx="518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AD 2000 &amp; Operation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105160" cy="39607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715000" y="16002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9 billion 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44956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ampant persecution of Christians ~ 200,000/y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419720"/>
            <a:ext cx="205740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22 / hr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914400" y="1676520"/>
          <a:ext cx="6629400" cy="37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676520"/>
                    <a:ext cx="662940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905120" y="533412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Local ch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29000" y="533412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Traditional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1008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Frontier mis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2209680"/>
            <a:ext cx="990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ahoma"/>
              </a:rPr>
              <a:t>9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86200" y="4114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4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4114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0.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219320" y="5335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urch spending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762120" y="609480"/>
            <a:ext cx="76960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ho can be a tentmaker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981080"/>
            <a:ext cx="297180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tud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971800"/>
            <a:ext cx="3657600" cy="1191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Professional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&amp; lay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09680" y="4495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Famil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2209680"/>
            <a:ext cx="221004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Sing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350532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Reti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2520" y="54864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ffff00"/>
                </a:solidFill>
                <a:latin typeface="Tahoma"/>
              </a:rPr>
              <a:t>Cou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1295280" y="21337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5638680" y="2362320"/>
            <a:ext cx="40032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5" action="ppaction://hlinksldjump"/>
          </p:cNvPr>
          <p:cNvSpPr/>
          <p:nvPr/>
        </p:nvSpPr>
        <p:spPr>
          <a:xfrm>
            <a:off x="5257800" y="36576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6" action="ppaction://hlinksldjump"/>
          </p:cNvPr>
          <p:cNvSpPr/>
          <p:nvPr/>
        </p:nvSpPr>
        <p:spPr>
          <a:xfrm>
            <a:off x="457200" y="31240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7" action="ppaction://hlinksldjump"/>
          </p:cNvPr>
          <p:cNvSpPr/>
          <p:nvPr/>
        </p:nvSpPr>
        <p:spPr>
          <a:xfrm>
            <a:off x="1600200" y="4572000"/>
            <a:ext cx="399960" cy="3999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8" action="ppaction://hlinksldjump"/>
          </p:cNvPr>
          <p:cNvSpPr/>
          <p:nvPr/>
        </p:nvSpPr>
        <p:spPr>
          <a:xfrm>
            <a:off x="3276720" y="5638680"/>
            <a:ext cx="399960" cy="4003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09480" y="533520"/>
            <a:ext cx="8001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piritual preparation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"/>
          <p:cNvSpPr/>
          <p:nvPr/>
        </p:nvSpPr>
        <p:spPr>
          <a:xfrm>
            <a:off x="304920" y="1828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evelop home sup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19320" y="26668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he Bi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3581280"/>
            <a:ext cx="403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to pr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44197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evangel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5410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earn disciple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640080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orking your way”,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Tahoma"/>
              </a:rPr>
              <a:t>Jonathan Lew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8T14:45:44Z</dcterms:created>
  <dc:creator>Chan</dc:creator>
  <dc:description/>
  <dc:language>en-US</dc:language>
  <cp:lastModifiedBy>Chan</cp:lastModifiedBy>
  <dcterms:modified xsi:type="dcterms:W3CDTF">2003-06-28T17:27:21Z</dcterms:modified>
  <cp:revision>10</cp:revision>
  <dc:subject/>
  <dc:title>PowerPoint Presentation</dc:title>
</cp:coreProperties>
</file>