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AC7-1C90-47AB-82F9-B5D7F83F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3BB-F059-49B8-9DF1-24FD1A12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67A-A9A9-4722-A1BD-FC820B8D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ECA-949C-4E1A-8703-3EC09674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4980-C680-44BF-B757-A2FBA875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5B5F-0669-4FEF-B9C0-684F5A18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CE02-96F5-49CC-848A-409046F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C3F2-F331-4075-A0D2-391C1B1A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C8C1-95C5-4D41-905E-055079C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8D7D-7838-467A-A12F-9AA2A8DE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A6DB-1DDF-472A-8559-30F0B19F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19B-2FE6-4C71-A2B9-2AA46F37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C764-A4A2-4DE2-9E0A-30173B2C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1E84-C2E7-415F-AD28-D8E1171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CB2E-985F-445D-8861-2F532C00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4C5E-4508-4EE8-963B-573932B6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B32B-D9BB-4836-81BD-A072BCB4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C04-0254-4DCB-A596-834EA928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D99-98B3-4A5D-94F5-4D02EF6C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8B6-52BB-4ECC-8839-B79738E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FCF-74A9-482B-95F2-321E71EF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038-E961-4C88-A8B2-4F06754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EC9-316C-4963-BCD6-1573A33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328-C421-47C2-BCA6-4A57BD4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715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770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4320" y="380520"/>
            <a:ext cx="760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600" spc="-1" strike="noStrike">
                <a:solidFill>
                  <a:srgbClr val="cd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08629D-60C5-43A4-A912-FD5001F760BF}" type="slidenum">
              <a:rPr b="0" lang="en-US" sz="2600" spc="-1" strike="noStrike">
                <a:solidFill>
                  <a:srgbClr val="cd33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87B96-B428-45E8-A9F5-4114C456B8AE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rl.nist.gov/index/prodname.index.tx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ec.com.tw/product/image/pda.jpg&amp;imgrefurl=http://www.nec.com.tw/product/pda.asp&amp;h=240&amp;w=232&amp;prev=/images%3Fq%3DPDA%26svnum%3D10%26hl%3Den%26lr%3Dlang_en%26ie%3DUTF-8%26oe%3DUTF-8%26safe%3Dof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-132.ibm.com/webapp/wcs/stores/servlet/CategoryDisplay?catalogId=-840&amp;storeId=1&amp;langId=-1&amp;dualCurrId=73&amp;categoryId=2580118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350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4000" spc="-1" strike="noStrike">
                <a:solidFill>
                  <a:srgbClr val="cd3333"/>
                </a:solidFill>
                <a:latin typeface="Comic Sans MS"/>
              </a:rPr>
              <a:t>Solving Computer Crime: An Introduction to 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8600"/>
            <a:ext cx="7620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lden G. Richard III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f Coast Computer Forensics Laboratory (GCCF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File was deleted, it’s gone!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sers often mistake normal deletion of files for “secure” dele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eleted files recoverable using forensics tool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ilesystem makes a small change in its bookkeeping info to mark a file as delet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ata associated with file is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eras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: FAT32 (Windows), first character of filename is changed to 0xEF in directory entry to “delete”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orensics software changes one character in directory entry, file reappear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prevent recovery, must perform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secure overwrite of the file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r physically destroy the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renamed the file, I’m safe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ildporn.jpg” </a:t>
            </a:r>
            <a:r>
              <a:rPr b="0" lang="en-US" sz="2400" spc="-1" strike="noStrike">
                <a:solidFill>
                  <a:srgbClr val="0811f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“winword.exe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Renaming files is an ineffective defense against digital forensics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1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ile types (e.g., JPEG image) have a structure that can be recognized directly, regardless of the filename a use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PEG files contain 0x4a464946 or 0x45786966 in the first block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2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ic hashing provides a mechanism for “fingerprinting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ontents is matched quickly, regardless o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es equivalent, file contents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:  fingerprints don’t care about hair col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Aside: Hash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Typical algorithms:  SHA-1, MD5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rename golden.jpg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automate checking of hash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Huge dictionaries exist with hashes for known files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srl.nist.gov/index/prodname.index.txt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and known child pornography fil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quickly disregard known files and target the interesting stuff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format-ed the drive, whew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ting a drive doe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prevent recovery of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n fact, format typically overwrites less than 1% of drive content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hy does it take so long?  Format i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reading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disk blocks to determine if bad blocks exi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 wipes out directories, so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ames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of files are lo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 lot of the data can still be recovered by sifting through data that remains after the format oper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 example, file carving tools reconstruct files by examining the initial and terminal bytes of the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e digital forensics Technique # 1 under file renaming fall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Fallacy: Media mutilation == Miller time!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1:  Cutting a floppy into piec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2:  Opening a hard drive, removing the platters, throwing them into the trash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nless the damage is extreme, mutilation of magnetic media is insufficient to prevent recove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Media can be reassembled and partial recovery perform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ven strong magnetic fields are insufficien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Older “military grade” degausser for erasing hard drives was so strong that it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bent the platters inside the driv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Your bulk tape eraser isn’t going to do the job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destroy data:  multiple overwrites (software) or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complete destruction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f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That’s One Big Degausser!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827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I used Web-based email…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allacy:  Use of web-based email rather than storing email messages directly on a computer is safer (in terms of thwarting recovery attempts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t’s not.  Even if you never download the email and immediately delete all messages on the server!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Recently viewed web pages are stored in web browser’s cach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ache is often in a hard-to-find place…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Internet Explorer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Tool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Internet Option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Delete Files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clears the cache in I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ee slide on recovery of deleted files for futility quotient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iles stored in browser cache are </a:t>
            </a:r>
            <a:r>
              <a:rPr b="0" lang="en-HK" sz="21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securely deleted when the cache is cleare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Browser cache mining tools bring recently viewed web pages, including web-based email messages, back to life in a flash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covery of web-based email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361" b="37502"/>
          <a:stretch/>
        </p:blipFill>
        <p:spPr>
          <a:xfrm>
            <a:off x="1371600" y="1752480"/>
            <a:ext cx="6172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Fallacy: Application uninstalls are easy…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llegal application installed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ear ensues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is uninstalled… (Am I safe?)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files can still be undeleted, proving application was install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urther steps to obscure installation: Securely overwrite application fil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w am I safe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pe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Remnants of installation can likely still be found in the Windows regist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Basically, if a user installs software and wants to permanently eradicate any traces, must securely erase the entire drive or destroy the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Fallacy: I encrypted my files…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encrypted file systems, if file is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ever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printed and spool directory isn’t encrypted, fragments may be left behin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some systems (e.g., Windows 2000), a “recovery agent” is able to read all encrypted file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For Windows 2000, this is the administrator account, thus just need to break administrator passwor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Problem:  keys for truly secure encryption schemes ar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lo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slips of paper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unencrypted password list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PDAs, phones, and organizers for passwords and encryption key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oftware or hardware keystroke logg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Van Eck radia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If the file can’t be decrypted, th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name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of the file may still be useful in prosecu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finition: “Tools and techniques to recover,    preserve, and examine digital evidence on or transmitted by digital devices.”</a:t>
            </a:r>
            <a:r>
              <a:rPr b="0" lang="en-US" sz="2800" spc="-1" strike="noStrike">
                <a:solidFill>
                  <a:srgbClr val="0811f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vices include computers, PDAs, cellular phones, videogame consoles…</a:t>
            </a:r>
            <a:endParaRPr b="0" lang="en-US" sz="26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6765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58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2019240" cy="1938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086360" y="439092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16765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114800" y="1676520"/>
            <a:ext cx="6541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53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9528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32448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cd3333"/>
                </a:solidFill>
                <a:latin typeface="Comic Sans MS"/>
              </a:rPr>
              <a:t>Beowulf, Slayer of Poorly Chosen Passwords…</a:t>
            </a:r>
            <a:endParaRPr b="0" lang="en-US" sz="28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12501" b="0"/>
          <a:stretch/>
        </p:blipFill>
        <p:spPr>
          <a:xfrm>
            <a:off x="1752480" y="2438280"/>
            <a:ext cx="6096240" cy="415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95240" y="18288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00000"/>
                </a:solidFill>
                <a:latin typeface="Arial"/>
              </a:rPr>
              <a:t>How good are your pass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anograph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echniques for hiding information within other information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ext on wood under wax layer on a wax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nvisible” ink (e.g., writing with lemon juice)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Moder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Much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ploy powerful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e documents w/in an image, video, or audi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den documents can be harmless, or child pornography, bomb pla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2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3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4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66920" y="17524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57320" y="2249640"/>
            <a:ext cx="207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d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hid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440" y="579132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ing in this case is not obvious (visually)…and image w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ed Golden is actually smaller (in bytes) than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1400" y="2209680"/>
            <a:ext cx="26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tatis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by “stegdetect”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correctly that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is hidden.  But jph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uses Blowfis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cramble the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embedded data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uccessful extra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very unlikely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password is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4191120"/>
            <a:ext cx="1905120" cy="18288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38280" y="3122640"/>
            <a:ext cx="91440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03680" y="2909520"/>
            <a:ext cx="251460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81080"/>
            <a:ext cx="167616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gn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65720" y="1631880"/>
            <a:ext cx="2359080" cy="2338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8000" y="4299120"/>
            <a:ext cx="2132280" cy="211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85040" y="3917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5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984320" y="60199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This “bomb” diagram, 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is </a:t>
            </a:r>
            <a:r>
              <a:rPr b="0" lang="en-HK" sz="1800" spc="-1" strike="noStrike" u="sng">
                <a:solidFill>
                  <a:srgbClr val="f80e35"/>
                </a:solidFill>
                <a:uFillTx/>
                <a:latin typeface="Arial"/>
              </a:rPr>
              <a:t>not</a:t>
            </a: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 detected inside the cactus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Bluepipe: On the Spot Digital Forensics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343240"/>
            <a:ext cx="80769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Legal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nvestigative needs vs. the right to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Search warrant laws, e.g., Fourth Amendment to the U.S. Constitu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iretap law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ain of custod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Admissibility of evidence in court: Dauber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Has theory or technique in question been tested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Is error rate known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Widespread acceptance within a relevant scientific community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atriot Ac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xpands governmental powers in terms of searching, wiretap w/o pri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The Other Side:  Privac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e’ve concentrated on the cool technology, bu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he existence of sophisticated digital forensics techniques is a great enabler for fascism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ctively fight laws that don’t appropriately balance privacy with need for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cure file deletion soft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Overwriting files with zeros is good enough unless a tunneling electron microscope is available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Volatile computing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Physical destruction of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Grind the media into 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Vats of acid or molten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vidence and Computer Crime (E. Casey, Academic Pres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Forensics and Privacy (M. Caloyannides, Artech Hous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r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references related to digital forensics, including a link to an interesting e-journal…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jde.org/ (International Journal of Digital Evidence)</a:t>
            </a:r>
            <a:r>
              <a:rPr b="0" lang="en-US" sz="1600" spc="-1" strike="noStrike">
                <a:solidFill>
                  <a:srgbClr val="615a0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p.poly.edu/kulesh/forensics/lis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s of stuff, including a bunch of online papers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cofs.com/tucofs/tucofs.asp?mode=main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ollection of forensics-related software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Commercial digital forensics software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K (Forensics Tool Ki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ok (law enforcement onl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H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amples of Digital Evidence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omputers increasingly involved in criminal and corporate investigation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Digital evidence may play a supporting role or be the “smoking gun”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mail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arassment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Black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llegal transmission of internal corporat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Meeting points/times for drug deal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uicide lett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Technical data for bomb maki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mage or digital video files (esp., child pornography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vidence of inappropriate use of computer resources or attack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as a spam email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to distribute illegally copi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ntation available: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040" y="3738600"/>
            <a:ext cx="79246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000099"/>
                </a:solidFill>
                <a:latin typeface="Arial"/>
              </a:rPr>
              <a:t>http://www.cs.uno.edu/~golden/tea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HK" sz="32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fd2703"/>
                </a:solidFill>
                <a:latin typeface="Arial"/>
              </a:rPr>
              <a:t>Office: Math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920"/>
            <a:ext cx="259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Major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18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dentification of potential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ight the evidence be?   Which devices did the suspect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Preserv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crime sc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tabilize evidence…prevent loss and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, make identical copies of evidence for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Careful extraction and examin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esentation 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 was fubared, but using a hex editor I changed the first byte of directory entry 13 from 0xEF to 0x08 to restore ‘HITLIST.DOC’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spect attempted to hide the Microsoft Word document ‘HITLIST.DOC’ but I was able to recover it without tampering with the file conten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Legal: Investigatory needs meet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Preservation of Evidence: Hardly trivial…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9920" y="1981080"/>
            <a:ext cx="1158840" cy="3124440"/>
            <a:chOff x="1069920" y="1981080"/>
            <a:chExt cx="1158840" cy="31244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8352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69920" y="3886200"/>
              <a:ext cx="1158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1676520" y="335124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28640" y="61437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4952880"/>
            <a:ext cx="5032800" cy="1516680"/>
            <a:chOff x="3809880" y="4952880"/>
            <a:chExt cx="5032800" cy="15166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5181480"/>
              <a:ext cx="13716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447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79880" y="60706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2000" spc="-1" strike="noStrike">
                  <a:solidFill>
                    <a:srgbClr val="000000"/>
                  </a:solidFill>
                  <a:latin typeface="Arial"/>
                </a:rPr>
                <a:t>Basement/clo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548640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4952880"/>
              <a:ext cx="21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fd2703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638680"/>
              <a:ext cx="205740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9880" y="1752480"/>
            <a:ext cx="4786560" cy="1990800"/>
            <a:chOff x="3809880" y="1752480"/>
            <a:chExt cx="4786560" cy="19908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048520" y="1752480"/>
              <a:ext cx="5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029280" y="1895400"/>
              <a:ext cx="1657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9880" y="1828800"/>
              <a:ext cx="1981440" cy="1447920"/>
            </a:xfrm>
            <a:prstGeom prst="borderCallout2">
              <a:avLst>
                <a:gd name="adj1" fmla="val 18750"/>
                <a:gd name="adj2" fmla="val -8333"/>
                <a:gd name="adj3" fmla="val 7893"/>
                <a:gd name="adj4" fmla="val 126282"/>
                <a:gd name="adj5" fmla="val 37500"/>
                <a:gd name="adj6" fmla="val 1495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Dear Susa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It’s not your fault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362320"/>
              <a:ext cx="685800" cy="1440"/>
            </a:xfrm>
            <a:prstGeom prst="line">
              <a:avLst/>
            </a:prstGeom>
            <a:ln w="38160">
              <a:solidFill>
                <a:srgbClr val="fd27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7743960" y="3057480"/>
              <a:ext cx="6001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7315200" y="2819520"/>
            <a:ext cx="60948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76" y="152"/>
                  <a:pt x="368" y="112"/>
                  <a:pt x="336" y="96"/>
                </a:cubicBezTo>
                <a:cubicBezTo>
                  <a:pt x="304" y="80"/>
                  <a:pt x="216" y="112"/>
                  <a:pt x="192" y="96"/>
                </a:cubicBezTo>
                <a:cubicBezTo>
                  <a:pt x="168" y="80"/>
                  <a:pt x="224" y="0"/>
                  <a:pt x="192" y="0"/>
                </a:cubicBezTo>
                <a:cubicBezTo>
                  <a:pt x="160" y="0"/>
                  <a:pt x="80" y="48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5161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Just pull the plu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Move the mouse for a quick p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                               </a:t>
            </a:r>
            <a:r>
              <a:rPr b="1" lang="en-HK" sz="2400" spc="-1" strike="noStrike">
                <a:solidFill>
                  <a:srgbClr val="0066ff"/>
                </a:solidFill>
                <a:latin typeface="Arial"/>
              </a:rPr>
              <a:t>Trip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76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k…tick…ti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5200560"/>
            <a:ext cx="2057400" cy="137160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d2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2146320" cy="3733920"/>
          </a:xfrm>
          <a:custGeom>
            <a:avLst/>
            <a:gdLst/>
            <a:ahLst/>
            <a:rect l="l" t="t" r="r" b="b"/>
            <a:pathLst>
              <a:path w="1352" h="2352">
                <a:moveTo>
                  <a:pt x="0" y="2352"/>
                </a:moveTo>
                <a:cubicBezTo>
                  <a:pt x="524" y="2280"/>
                  <a:pt x="1048" y="2208"/>
                  <a:pt x="1200" y="2064"/>
                </a:cubicBezTo>
                <a:cubicBezTo>
                  <a:pt x="1352" y="1920"/>
                  <a:pt x="920" y="1688"/>
                  <a:pt x="912" y="1488"/>
                </a:cubicBezTo>
                <a:cubicBezTo>
                  <a:pt x="904" y="1288"/>
                  <a:pt x="1104" y="1112"/>
                  <a:pt x="1152" y="864"/>
                </a:cubicBezTo>
                <a:cubicBezTo>
                  <a:pt x="1200" y="616"/>
                  <a:pt x="1200" y="308"/>
                  <a:pt x="12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267080"/>
            <a:ext cx="6019560" cy="482760"/>
          </a:xfrm>
          <a:custGeom>
            <a:avLst/>
            <a:gdLst/>
            <a:ahLst/>
            <a:rect l="l" t="t" r="r" b="b"/>
            <a:pathLst>
              <a:path w="3792" h="304">
                <a:moveTo>
                  <a:pt x="0" y="288"/>
                </a:moveTo>
                <a:cubicBezTo>
                  <a:pt x="184" y="264"/>
                  <a:pt x="368" y="240"/>
                  <a:pt x="528" y="240"/>
                </a:cubicBezTo>
                <a:cubicBezTo>
                  <a:pt x="688" y="240"/>
                  <a:pt x="800" y="304"/>
                  <a:pt x="960" y="288"/>
                </a:cubicBezTo>
                <a:cubicBezTo>
                  <a:pt x="1120" y="272"/>
                  <a:pt x="1248" y="168"/>
                  <a:pt x="1488" y="144"/>
                </a:cubicBezTo>
                <a:cubicBezTo>
                  <a:pt x="1728" y="120"/>
                  <a:pt x="2112" y="168"/>
                  <a:pt x="2400" y="144"/>
                </a:cubicBezTo>
                <a:cubicBezTo>
                  <a:pt x="2688" y="120"/>
                  <a:pt x="2984" y="0"/>
                  <a:pt x="3216" y="0"/>
                </a:cubicBezTo>
                <a:cubicBezTo>
                  <a:pt x="3448" y="0"/>
                  <a:pt x="3620" y="72"/>
                  <a:pt x="3792" y="144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724280"/>
            <a:ext cx="622080" cy="1905120"/>
          </a:xfrm>
          <a:custGeom>
            <a:avLst/>
            <a:gdLst/>
            <a:ahLst/>
            <a:rect l="l" t="t" r="r" b="b"/>
            <a:pathLst>
              <a:path w="392" h="1200">
                <a:moveTo>
                  <a:pt x="0" y="0"/>
                </a:moveTo>
                <a:cubicBezTo>
                  <a:pt x="88" y="60"/>
                  <a:pt x="176" y="120"/>
                  <a:pt x="240" y="240"/>
                </a:cubicBezTo>
                <a:cubicBezTo>
                  <a:pt x="304" y="360"/>
                  <a:pt x="392" y="592"/>
                  <a:pt x="384" y="720"/>
                </a:cubicBezTo>
                <a:cubicBezTo>
                  <a:pt x="376" y="848"/>
                  <a:pt x="216" y="928"/>
                  <a:pt x="192" y="1008"/>
                </a:cubicBezTo>
                <a:cubicBezTo>
                  <a:pt x="168" y="1088"/>
                  <a:pt x="204" y="1144"/>
                  <a:pt x="240" y="120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rvation: Imag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5181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en making copies of media to be investigated,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prevent accidental modification or destruction of evidence!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d2703"/>
                </a:solidFill>
                <a:latin typeface="Arial"/>
              </a:rPr>
              <a:t>Write blockers:  Use them.  Always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d under Linux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OS boot floppi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oprietary imaging solution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1905120"/>
            <a:ext cx="1942920" cy="387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2640" y="57913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2589120"/>
            <a:ext cx="1523880" cy="1069920"/>
          </a:xfrm>
          <a:prstGeom prst="line">
            <a:avLst/>
          </a:prstGeom>
          <a:ln w="19080">
            <a:solidFill>
              <a:srgbClr val="fd27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traction and Examination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Know where evidence can be found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Understand techniques used to hide or “destroy” digital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olbox of techniques to discover hidden data and recover “destroyed”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Cope with HUGE quantities of digital data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Ignore the irrelevant and target the relevant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Where’s the evidence?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Undeleted files, expect some names to be incorrect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Deleted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Windows registry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Print spool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Hibernation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Temp files (all those .TMP files!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lack space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wap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Browser cach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Alternate partition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On a variety of removable media (floppies, ZIP, Jazz, tapes, …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 vs. Fact in Digital Forensics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Many digital forensics tools and techniques are quite complex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Very difficult to cover in a short lecture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 illustrate investigative procedures for digital forensics, a fact vs. fallacy approach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fd2703"/>
                </a:solidFill>
                <a:latin typeface="Arial"/>
              </a:rPr>
              <a:t>Fallacy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User attempting to hide evidence believes one thing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9a914"/>
                </a:solidFill>
                <a:latin typeface="Arial"/>
              </a:rPr>
              <a:t>Fact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But in fact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Look at a few fact vs. fallacy scenarios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hen, one more advanced topic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lden G. Richard III, Ph.D.</dc:creator>
  <dc:description/>
  <dc:language>en-US</dc:language>
  <cp:lastModifiedBy>Golden G. Richard III</cp:lastModifiedBy>
  <cp:revision>0</cp:revision>
  <dc:subject/>
  <dc:title>Computer Security Fall 2002</dc:title>
</cp:coreProperties>
</file>