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</p:sldIdLst>
  <p:sldSz cx="9144000" cy="6858000"/>
  <p:notesSz cx="91186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9118800" cy="6858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1268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3/11/0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600440" y="6072840"/>
            <a:ext cx="34862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r">
              <a:lnSpc>
                <a:spcPct val="93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fld id="{D6412C93-4815-48B2-8AA4-FC2C591AC4A8}" type="slidenum">
              <a:rPr b="0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60400" y="497880"/>
            <a:ext cx="4400640" cy="2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b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819000"/>
                <a:tab algn="ctr" pos="1638360"/>
                <a:tab algn="ctr" pos="2457360"/>
                <a:tab algn="l" pos="3276720"/>
                <a:tab algn="l" pos="4095720"/>
                <a:tab algn="l" pos="4915080"/>
                <a:tab algn="l" pos="5734080"/>
                <a:tab algn="l" pos="6553080"/>
                <a:tab algn="l" pos="7372440"/>
                <a:tab algn="l" pos="8191440"/>
                <a:tab algn="l" pos="9010800"/>
                <a:tab algn="l" pos="9829800"/>
                <a:tab algn="l" pos="106488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   JavaOne 2003   |   Session #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Img"/>
          </p:nvPr>
        </p:nvSpPr>
        <p:spPr>
          <a:xfrm>
            <a:off x="0" y="5209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guarantees of fairness using synchronized keywo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ced to use block structured lock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formance of synchronized on multiprocessors potentially poor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olation of encapsulation: the object’s lock is exposed to all clie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ways use the lock-try-finally-unlock patter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body"/>
          </p:nvPr>
        </p:nvSpPr>
        <p:spPr>
          <a:xfrm>
            <a:off x="1689120" y="4495680"/>
            <a:ext cx="5487840" cy="33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0">
              <a:lnSpc>
                <a:spcPct val="93000"/>
              </a:lnSpc>
              <a:spcBef>
                <a:spcPts val="425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y-lock variants acquire the lock only if it is available, returning true if lock was acquired, false otherwi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body"/>
          </p:nvPr>
        </p:nvSpPr>
        <p:spPr>
          <a:xfrm>
            <a:off x="1689120" y="3303360"/>
            <a:ext cx="5487840" cy="3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62000" indent="-162000">
              <a:lnSpc>
                <a:spcPct val="93000"/>
              </a:lnSpc>
              <a:spcBef>
                <a:spcPts val="425"/>
              </a:spcBef>
              <a:buClr>
                <a:srgbClr val="000000"/>
              </a:buClr>
              <a:buFont typeface="Times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able doesn't leave room for arguments, so it is normally implemented as an inner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R 166 headed by Doug Lea, creator of popular package util.concurren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which the new utilities are ba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-presenting at JavaOne with Joe Bowbe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green are discussed in the ta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sses and interfaces in orange are referred to brief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ntion of anything el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lit between three packages: j.u.c, j.u.c.locks, and j.u.c.ato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body"/>
          </p:nvPr>
        </p:nvSpPr>
        <p:spPr>
          <a:xfrm>
            <a:off x="1689120" y="3303720"/>
            <a:ext cx="5487840" cy="28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threads accessing one instance may interfere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xample, operations may be interleaved in such a way that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Int method returns the same value twice in a r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ldImg"/>
          </p:nvPr>
        </p:nvSpPr>
        <p:spPr>
          <a:xfrm>
            <a:off x="2886120" y="884160"/>
            <a:ext cx="3117960" cy="233856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284364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44280" y="510516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114300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284364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4544280" y="5901480"/>
            <a:ext cx="161928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3000" y="1996560"/>
            <a:ext cx="4952880" cy="80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720240" y="590148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720240" y="5105160"/>
            <a:ext cx="245412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5901480"/>
            <a:ext cx="50292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D6E9D-22AC-4E85-912D-DA162A894CA6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─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3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7122960" y="3571560"/>
            <a:ext cx="1800360" cy="16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88000"/>
              </a:lnSpc>
              <a:spcBef>
                <a:spcPts val="575"/>
              </a:spcBef>
              <a:spcAft>
                <a:spcPts val="575"/>
              </a:spcAft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va.sun.com/javaone/s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12EF-0DC9-4132-B147-A59B4AE349B1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700"/>
              </a:spcBef>
              <a:buClr>
                <a:srgbClr val="cc0000"/>
              </a:buClr>
              <a:buFont typeface="Wingdings" charset="2"/>
              <a:buChar char="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499"/>
              </a:spcBef>
              <a:buClr>
                <a:srgbClr val="cc0000"/>
              </a:buClr>
              <a:buFont typeface="Wingdings" charset="2"/>
              <a:buChar char="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914400" y="6597720"/>
            <a:ext cx="51055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>
            <a:spAutoFit/>
          </a:bodyPr>
          <a:p>
            <a:pPr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999999"/>
                </a:solidFill>
                <a:latin typeface="Arial"/>
              </a:rPr>
              <a:t>|   Concurrency Utilities in Pract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1EE9-950B-486E-9493-6BBBB863E848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1150920" y="5028840"/>
            <a:ext cx="45705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50000"/>
          </a:bodyPr>
          <a:p>
            <a:pPr indent="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70440" indent="-14184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5713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7999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ymbol" charset="2"/>
              <a:buChar char="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cc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1028520" indent="-114120">
              <a:lnSpc>
                <a:spcPct val="83000"/>
              </a:lnSpc>
              <a:spcBef>
                <a:spcPts val="726"/>
              </a:spcBef>
              <a:spcAft>
                <a:spcPts val="726"/>
              </a:spcAft>
              <a:buClr>
                <a:srgbClr val="000000"/>
              </a:buClr>
              <a:buFont typeface="StarSymbol"/>
              <a:buChar char="›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Fixed using synchron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1981080"/>
            <a:ext cx="7848720" cy="32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Syn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Better fix using L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1676520"/>
            <a:ext cx="7848720" cy="47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Lo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 finall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.un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Lock lock = new ReentrantLock(tr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Lock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9625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lockInterruptibly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tryLock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un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Lock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ReentrantLock(boolean fair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exclu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ven better fix using Atomic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14400" y="1752480"/>
            <a:ext cx="7772400" cy="40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PseudoRandomUsingAtomi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;;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ge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s = computeNext(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d.compareAndSet(s, nexts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AtomicInteger seed = new AtomicInteger(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AtomicInte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44197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extends Number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   implements Serializ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AtomicInteger(int initialCoun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1800"/>
            </a:b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mpareAndSe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int expect, int updat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boolean weakCompareAndSet(int expect, int update)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get(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Set(int newValue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Add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addAndGet(int delta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In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getAndDecremen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incrementAndGet() {…}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int decrementAndGet() {…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nsure consistency via atomic 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040" y="2057040"/>
            <a:ext cx="794844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eRollTask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eatedly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rolls a 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ordinate tasks 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to run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ral DieRollTask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50760" y="1736640"/>
            <a:ext cx="7772400" cy="43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TASK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instances of DieRoll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int NROLLS;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#die rolls per task 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PseudoRandom r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final CountDownLatch startSignal 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new CountDownLatch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untDownLatch doneSigna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                 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untDownLatch(NTASK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DieRollTask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startSigna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int i = 0; i &lt; NROLLS; ++i)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rnd.nextInt(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doneSignal.countDow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Coordinate tasks with CountDownLa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untDownLatch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7720" y="182844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ing threads are released when count become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Latch(int initialCoun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…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untDow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long getCount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ordinate thread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50760" y="1736640"/>
            <a:ext cx="7772400" cy="41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inal Executor threadPool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.newFixedThreadPool(NTASK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trial(final int NROLL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PseudoRandom r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j = 0; j &lt; NTASKS; ++j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threadPool.execute(new DieRollTask(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give tasks time to wait for startSignal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start = System.nanoTim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startSignal.countDown();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release tas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doneSignal.await();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wait ‘til d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ystem.nanoTime() – star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Use Executor to run several DieRoll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ecuto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0384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es submitted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Runnable task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ecutors ha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static factory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ecutors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static ExecutorService  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extends Executor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FixedThreadPoo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int nThreads) {…}</a:t>
            </a:r>
            <a:br>
              <a:rPr sz="2000"/>
            </a:b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many more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Decouple task submission from exec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38320" y="3166920"/>
            <a:ext cx="7059600" cy="14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view concurrency ut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Present several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ctr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Measure and evaluate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14400" y="1600200"/>
            <a:ext cx="7772400" cy="45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PseudoRandomImp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ollection&lt;PseudoRandomImpl&gt; impl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TRIALS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trials/implem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int NROLLS  = …; //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#die rolls/t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PseudoRandomImpl impl : impls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ng nanos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seudoRandom rn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or (int k = 0; k &lt; NTRIALS; ++k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nd = impl.newInstance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nos += trial(NROLLS, r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long avg = nanos / (NTRIALS * NROLL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rnd != null) report(rnd.getClass(), av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ime multiple trials of each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machine, one JVM, one plat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things that could affect resul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ing of fields on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che locality of generated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sholds for native compi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ground user and system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Test methodology disclai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ults on 3.2 GHz Pentium 4, -client (Wind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915840" y="1600200"/>
          <a:ext cx="79441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600200"/>
                    <a:ext cx="79441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mo Function: A function that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memoriz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ts previous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timization for recursive function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vented by Prof. Donald Michie, Univ. of Edinbur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Implement memoi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nction wra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concurrent a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mpute each result at mos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ConcurrentHashMap, Future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"Memoizer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1752480"/>
            <a:ext cx="7772400" cy="43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A arg) throws 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mplements Computable&lt;String, BigInteger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BigInteger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mput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ring arg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after deep thought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new BigInteger("2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nction f = new Function(); //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f = Memoize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Generic computation and example of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2895480"/>
            <a:ext cx="769644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1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 new HashMap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1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ynchroniz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V compute(A arg) throws...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able&lt;String, BigInteger&gt; 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Functio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 = new Memoize1&lt;String, BigInteger&gt;(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.compute("1 + 1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&gt;&gt;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ching the computed resu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914400" y="2819520"/>
            <a:ext cx="75438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2120" y="4876920"/>
            <a:ext cx="7848360" cy="0"/>
          </a:xfrm>
          <a:prstGeom prst="line">
            <a:avLst/>
          </a:prstGeom>
          <a:ln w="93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4572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950760" y="1736640"/>
            <a:ext cx="7772400" cy="32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2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V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A, V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Memoize2(Computable&lt;A, V&gt; c) { this.c = c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No synchronization, but computes may overl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175248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Memoize3&lt;A, V&gt; implements Computable&lt;A, V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Map&lt;A, Future&lt;V&gt;&gt; cache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ConcurrentHashMap&lt;A,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!cache.containsKey(arg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llable&lt;V&gt; eval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ft = 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ache.put(arg, ft);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cache.get(arg)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lapping computes less lik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allables and Futur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874280" cy="487656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allab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invoked and returns a val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holds result of asynchronous computation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get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 throws InterruptedException, ExecutionException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 get(long timeout, TimeUnit unit) throws IE, …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cance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boolean mayInterrupt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Cancelled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boolean isDone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utureTask</a:t>
            </a:r>
            <a:r>
              <a:rPr b="1" lang="en-GB" sz="18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a Runnable Futur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plements Future&lt;V&gt;, Runnable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tureTas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) {…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 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presenting asynchronous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oize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1600200"/>
            <a:ext cx="7772400" cy="48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Memoize&lt;A, V&gt; implements Computable&lt;A, 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A, Future&lt;V&gt;&gt; cache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ConcurrentHashMap&lt;A, Future&lt;V&gt;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Computable&lt;A, V&gt; c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Memoize(Computable&lt;A, V&gt; c) { this.c = c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ompute(final A arg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V&gt; f = cache.get(arg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allable&lt;V&gt; eval = new Callable&lt;V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Task&lt;V&gt; ft = new FutureTask&lt;V&gt;(eva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 = cache.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arg, ft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f == null) { f = ft;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eake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5960" y="20574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5960" y="5943600"/>
            <a:ext cx="8778960" cy="1440"/>
          </a:xfrm>
          <a:prstGeom prst="line">
            <a:avLst/>
          </a:prstGeom>
          <a:ln w="547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3432240"/>
            <a:ext cx="65534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lvl="1">
              <a:lnSpc>
                <a:spcPct val="98000"/>
              </a:lnSpc>
              <a:spcBef>
                <a:spcPts val="1437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000" spc="-1" strike="noStrike">
                <a:solidFill>
                  <a:srgbClr val="000000"/>
                </a:solidFill>
                <a:latin typeface="Arial"/>
              </a:rPr>
              <a:t>Tim Peierls</a:t>
            </a:r>
            <a:r>
              <a:rPr b="0" i="1" lang="en-GB" sz="3000" spc="-1" strike="noStrike">
                <a:solidFill>
                  <a:srgbClr val="000000"/>
                </a:solidFill>
                <a:latin typeface="Arial"/>
              </a:rPr>
              <a:t> is a member of the JSR 166 Expert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Memoiz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90720" y="1676520"/>
            <a:ext cx="7772400" cy="40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 = cache.get(arg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allable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val = new Callable&lt;V&gt;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 call() throws 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.compute(arg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t = new FutureTask&lt;V&gt;(eva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cache.putIfAbsent(arg, f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 =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 = f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t.run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f.ge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actly one compute() for each argu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914040" y="1828800"/>
            <a:ext cx="794844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forms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d by Hans Mu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oal: Reimplement 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more features with less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terials: FutureTask,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Reimplementation of SwingWor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14400" y="73080"/>
            <a:ext cx="7862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90720" y="1676520"/>
            <a:ext cx="77724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abstract V construc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 ge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ngWorker&lt;String&gt; sw = new SwingWorker&lt;String&gt;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String construct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read.sleep(5000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 "Done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tected void finished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get(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bel.setText("Working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.star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106668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form GUI-related work in a new th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79640" indent="0">
              <a:lnSpc>
                <a:spcPct val="85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914400" y="1752480"/>
            <a:ext cx="914400" cy="60984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king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4800600"/>
            <a:ext cx="914400" cy="609480"/>
          </a:xfrm>
          <a:prstGeom prst="flowChartAlternateProcess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4572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2438280"/>
            <a:ext cx="0" cy="228600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4572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64771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78645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wingWorker Reimplement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38080" y="883440"/>
            <a:ext cx="7848720" cy="56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abstract class SwingWorker&lt;V&gt;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GB" sz="1600" spc="-1" strike="noStrike">
                <a:solidFill>
                  <a:srgbClr val="008000"/>
                </a:solidFill>
                <a:latin typeface="Courier New"/>
              </a:rPr>
              <a:t>FutureTask&lt;V&gt;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task =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new FutureTask&lt;V&gt;(new Callable&lt;V&gt;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ublic V call() throws Exception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return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}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protected void don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 EventQueue.invokeLater(new Runnable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public void run() {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   </a:t>
            </a:r>
            <a:r>
              <a:rPr b="1" lang="en-GB" sz="16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     }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   }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  }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abstract V construct() throws Excep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otected void finished {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ew Thread(task).start();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 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return task.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  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side SwingWork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903320"/>
            <a:ext cx="75438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Task&lt;V&gt; task =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new FutureTask&lt;V&gt;(new Callable&lt;V&gt;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ublic V call() throws Exception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return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onstruct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 }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protected void don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ventQueue.invokeLat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new Runnable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public void run()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  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finished(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     }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    }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all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construct</a:t>
            </a: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, then invokes </a:t>
            </a:r>
            <a:r>
              <a:rPr b="1" lang="en-US" sz="2800" spc="-1" strike="noStrike">
                <a:solidFill>
                  <a:srgbClr val="105d8c"/>
                </a:solidFill>
                <a:latin typeface="Courier New"/>
              </a:rPr>
              <a:t>fin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759320"/>
            <a:ext cx="79246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bstract class SwingWorker&lt;V&gt; implements Future&lt;V&gt;,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oid run() {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run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) throws IE, ExecutionException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 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V get(long timeout, TimeUnit unit) throws ... {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   return </a:t>
            </a:r>
            <a:r>
              <a:rPr b="1" lang="en-US" sz="1600" spc="-1" strike="noStrike">
                <a:solidFill>
                  <a:srgbClr val="336699"/>
                </a:solidFill>
                <a:latin typeface="Courier New"/>
              </a:rPr>
              <a:t>task.get(timeout, unit)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  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public boolean cancel(boolean mayInterruptIfRunning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Cancelled() 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ublic boolean isDone()..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s Future and Runn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990720" y="1677960"/>
            <a:ext cx="7543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bstract class SwingWorker&lt;V&gt; ...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tic final Executor EXECUTOR = new Executor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public void execute(Runnable command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  </a:t>
            </a:r>
            <a:r>
              <a:rPr b="1" lang="en-US" sz="1800" spc="-1" strike="noStrike">
                <a:solidFill>
                  <a:srgbClr val="336699"/>
                </a:solidFill>
                <a:latin typeface="Courier New"/>
              </a:rPr>
              <a:t>new Thread(command).start()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}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ivate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= EXECUT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etExecutor(Executor e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Executor getExecutor()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 void start() {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   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</a:rPr>
              <a:t>executor.execute(this)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luggable 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wingWorker Revisited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1066680"/>
            <a:ext cx="777240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14400" y="1726560"/>
            <a:ext cx="75438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 execution in cached thread pool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ngWorker sw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ecutor 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CachedThreadPool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quential execution on a single thread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 =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</a:rPr>
              <a:t>Executors.newSingleThreadExecutor(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.execute(sw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Executor cho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cy utilities enable simple, powerfu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ncel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et with time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luggable execu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wingWorker =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Futu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all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Runnabl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ote: Also see </a:t>
            </a:r>
            <a:r>
              <a:rPr b="0" lang="en-GB" sz="2400" spc="-1" strike="noStrike">
                <a:solidFill>
                  <a:srgbClr val="cc6600"/>
                </a:solidFill>
                <a:latin typeface="Arial"/>
              </a:rPr>
              <a:t>http://foxtrot.sourceforge.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ingWork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seudoRan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moi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ngWor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unded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bCraw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9880" y="1899720"/>
            <a:ext cx="7953120" cy="4186440"/>
          </a:xfrm>
          <a:prstGeom prst="rect">
            <a:avLst/>
          </a:prstGeom>
          <a:noFill/>
          <a:ln w="0">
            <a:noFill/>
          </a:ln>
        </p:spPr>
        <p:txBody>
          <a:bodyPr rIns="4572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oundedBuffe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ith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with other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lternative approach for single producer / single consumer settings using 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Excha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14400" y="1905120"/>
            <a:ext cx="7772400" cy="38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Bounded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E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Adds element to buffer, blocking unt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full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lement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moves element from buffer, blocks unt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buffer not emp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nterruptedExceptio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oundedBuffer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14400" y="1752480"/>
            <a:ext cx="7772400" cy="46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BoundedBufferUsingCondition&lt;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oundedBuffer&lt;E&gt;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 lock = new Reentrant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 Condition notFull 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Condition notEmpty = lock.newConditio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[] items;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nt putIndex, takeIndex, 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put(E element) throws I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while (size == items.length) notFull.awai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tems[putIndex++] = element; ++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putIndex == items.length) putIndex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otEmpty.signa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                  //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to be continued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Condi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dition analogous to Object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ait/notify/notify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awai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(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awaitUninterruptibly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igna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void signalAll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336699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eate Conditions with a 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Lock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…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Conditio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newCondition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Multiple wait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90720" y="1752480"/>
            <a:ext cx="7772400" cy="41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/ …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continu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E take() throws InterruptedException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lock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while (size == 0) notEmpty.await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 element = items[takeIndex++]; --size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takeIndex == items.length) takeIndex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notFull.signal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       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lock.unlock(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Implement BoundedBuffer with Condition, cont’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94880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ed using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914400" y="1905120"/>
            <a:ext cx="7772400" cy="33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 webCrawler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BlockingQueue&lt;URL&gt; rq = …; // </a:t>
            </a:r>
            <a:r>
              <a:rPr b="1" i="1" lang="en-GB" sz="2000" spc="-1" strike="noStrike">
                <a:solidFill>
                  <a:srgbClr val="cc6600"/>
                </a:solidFill>
                <a:latin typeface="Courier New"/>
              </a:rPr>
              <a:t>result que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uture&lt;?&gt; crawl =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webCrawler.craw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startUrl,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!foundEnough()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found = </a:t>
            </a:r>
            <a:r>
              <a:rPr b="1" lang="en-GB" sz="2000" spc="-1" strike="noStrike">
                <a:solidFill>
                  <a:srgbClr val="cc6600"/>
                </a:solidFill>
                <a:latin typeface="Courier New"/>
              </a:rPr>
              <a:t>rq.poll(timeout, unit)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found == null) 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rocess(foun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finally {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crawl.cance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true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pplication of producer/consumer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7720" y="1828800"/>
            <a:ext cx="7874280" cy="45720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lvl="3" indent="0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&lt;E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xtends Queue&lt;E&gt; {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add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offer(E 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o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E e, long timeout, TimeUnit unit)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o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long timeout, TimeUnit unit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put(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) throws IE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E take() 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remainingCapacity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>
              <a:lnSpc>
                <a:spcPct val="77000"/>
              </a:lnSpc>
              <a:spcBef>
                <a:spcPts val="425"/>
              </a:spcBef>
              <a:spcAft>
                <a:spcPts val="711"/>
              </a:spcAft>
              <a:buClr>
                <a:srgbClr val="000000"/>
              </a:buClr>
              <a:buSzPct val="25000"/>
              <a:buFont typeface="Symbol" charset="2"/>
              <a:buChar char="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drainTo(Collection&lt;? super E&gt; elements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int drainTo(Collection&lt;? Super E&gt; elements,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int maxElements);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 version of java.util.Que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914400" y="1828800"/>
            <a:ext cx="777240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WebCrawler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ervice pool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CachedThreadPoo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uture&lt;?&gt; crawl(URL startUrl, BlockingQueue&lt;URL&gt; rq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submi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new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startUrl, rq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Crawl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Gets URL contents and parses list of URL link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 from them; may block indefinite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List&lt;URL&gt; fetchLinks(URL url) throws IOException {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Implemented using cached thread p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90720" y="1752480"/>
            <a:ext cx="7772400" cy="47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class CrawlTask implements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seen.add(url); !done(); url = poll(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6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rl, timeout, unit)) retur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 catch (IOException e) {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// skip over </a:t>
            </a:r>
            <a:r>
              <a:rPr b="1" i="1" lang="en-GB" sz="1600" spc="-1" strike="noStrike">
                <a:solidFill>
                  <a:srgbClr val="000000"/>
                </a:solidFill>
                <a:latin typeface="Courier New"/>
              </a:rPr>
              <a:t>ur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, couldn’t get its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void add(URL u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if (!seen.contains(u)) { seen.add(u)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offer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u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boolean done() { return url == null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poll() { return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.poll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()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RL url = startUr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Set&lt;URL&gt; seen = new HashSet&lt;URL&gt;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final Queue&lt;URL&gt; </a:t>
            </a:r>
            <a:r>
              <a:rPr b="1" lang="en-GB" sz="1600" spc="-1" strike="noStrike">
                <a:solidFill>
                  <a:srgbClr val="cc3333"/>
                </a:solidFill>
                <a:latin typeface="Courier New"/>
              </a:rPr>
              <a:t>pq = new PriorityQueue&lt;URL&gt;(…, searchOrd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roblem: Implementation blocks on fet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Util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217520"/>
            <a:ext cx="3886200" cy="518184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xecu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Scheduled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all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ScheduledFu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Delay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cc6600"/>
                </a:solidFill>
                <a:latin typeface="Arial"/>
              </a:rPr>
              <a:t>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ScheduledThreadPoolExecu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Executor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Execu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Future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ecutorCompletion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Que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Linked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ked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Arra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hronous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PriorityBlocking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lay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143000"/>
            <a:ext cx="39621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45720" tIns="46080" bIns="46080" anchor="t">
            <a:normAutofit/>
          </a:bodyPr>
          <a:p>
            <a:pPr marL="341280" indent="-341280">
              <a:lnSpc>
                <a:spcPct val="6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64040" y="1218960"/>
            <a:ext cx="3898800" cy="5180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current Colle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current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ncurrentHash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yOnWriteArray{List,Set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ynchroniz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CountDownLa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aph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cc6600"/>
                </a:solidFill>
                <a:latin typeface="Arial"/>
              </a:rPr>
              <a:t>Exchan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yclicB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6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Time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Loc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8000"/>
                </a:solidFill>
                <a:latin typeface="Arial"/>
              </a:rPr>
              <a:t>Con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bstractQueuedSynchroniz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k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8000"/>
                </a:solidFill>
                <a:latin typeface="Arial"/>
              </a:rPr>
              <a:t>Reentrant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entrantReadWriteLo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om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Arial"/>
              </a:rPr>
              <a:t>Atomic[Type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Ar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[Type]FieldUpd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{Markable,Stampable}Re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990720" y="1752480"/>
            <a:ext cx="777240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seen.put(url, true); !done(); url = poll(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ool.execute(new Runnable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ublic void run(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or (URL link : fetchLinks(url)) add(lin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!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r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, timeout, unit)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{ done = true; return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 catch (IOException e) { /* skip */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}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boolean done() { return done || url == null;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latile boolean done = fals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1" i="1" lang="en-GB" sz="1800" spc="-1" strike="noStrike">
                <a:solidFill>
                  <a:srgbClr val="000000"/>
                </a:solidFill>
                <a:latin typeface="Courier New"/>
              </a:rPr>
              <a:t>continued on next slid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Solution: Pool runs each fetch as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1752480"/>
            <a:ext cx="7772400" cy="43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 pq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riorityBlockingQueu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&gt;(CAP, searchOrder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 seen 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HashMap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URL, Boolean&gt;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seen.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, true) == nu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URL poll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=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oll(timeout, unit)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Need concurrent coll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PriorityBlockingQueu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7874280" cy="18288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&lt;E&gt; 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mplements BlockingQueue&lt;E&gt;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PriorityBlockingQueue(int initialCapacity,</a:t>
            </a:r>
            <a:br>
              <a:rPr sz="1800"/>
            </a:b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                      Comparator&lt;? super E&gt; comp);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…</a:t>
            </a:r>
            <a:br>
              <a:rPr sz="1800"/>
            </a:b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BlockingQueue with least element available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ConcurrentMap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400" y="2133720"/>
            <a:ext cx="7873920" cy="220968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ConcurrentMap&lt;K,V&gt;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tends Map&lt;K,V&gt;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V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putIfAbsent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V replac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place(K key, V oldValue, V new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boolean remove(K key, V value);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get-and-maybe-set methods for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90720" y="1752480"/>
            <a:ext cx="7772400" cy="34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1800" spc="-1" strike="noStrike">
                <a:solidFill>
                  <a:srgbClr val="336699"/>
                </a:solidFill>
                <a:latin typeface="Courier New"/>
              </a:rPr>
              <a:t>PeriodicHostTask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implements Runn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String hos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 hq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new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ConcurrentLinkedQueue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&lt;URL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ublic void run() { // called periodic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URL url =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poll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url != null) </a:t>
            </a:r>
            <a:r>
              <a:rPr b="1" lang="en-GB" sz="1800" spc="-1" strike="noStrike">
                <a:solidFill>
                  <a:srgbClr val="cc3333"/>
                </a:solidFill>
                <a:latin typeface="Courier New"/>
              </a:rPr>
              <a:t>pq.pu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hq.offer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Wrinkle: Denial of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1752480"/>
            <a:ext cx="7772400" cy="43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final ScheduledExecutorService sche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Executors.newScheduledThreadPool(1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final ConcurrentMap&lt;String,PeriodicHostTask&gt; hosts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new ConcurrentHashMap&lt;String,PeriodicHostTask&gt;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void add(URL ur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seen.putIfAbsent(url, true) != null) retur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hostTask = new PeriodicHostTas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PeriodicHostTask existing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cc6600"/>
                </a:solidFill>
                <a:latin typeface="Courier New"/>
              </a:rPr>
              <a:t>hosts.putIfAbsent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url.getHost(), hostTask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if (existing == null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 = hostTask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008000"/>
                </a:solidFill>
                <a:latin typeface="Courier New"/>
              </a:rPr>
              <a:t>sched.scheduleWithFixedDelay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hostTask, 0, 1, TimeUnit.SECOND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existing.add(ur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solution: Schedule periodic fe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view: ScheduledExecutor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7874280" cy="304812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dExecutorService </a:t>
            </a:r>
            <a:br>
              <a:rPr sz="1400"/>
            </a:b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         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extends ExecutorService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&lt;V&gt; ScheduledFuture&lt;V&gt; schedule(Callable&lt;V&gt; c,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(Runnable r,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scheduleAtFixedRate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long period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ScheduledFuture&lt;?&gt; </a:t>
            </a:r>
            <a:r>
              <a:rPr b="1" lang="en-GB" sz="1400" spc="-1" strike="noStrike">
                <a:solidFill>
                  <a:srgbClr val="008000"/>
                </a:solidFill>
                <a:latin typeface="Courier New"/>
              </a:rPr>
              <a:t>scheduleWithFixedDelay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(Runnable r, long initDelay, </a:t>
            </a:r>
            <a:br>
              <a:rPr sz="1400"/>
            </a:b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                                            long delay, TimeUnit unit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3000"/>
              </a:lnSpc>
              <a:spcBef>
                <a:spcPts val="1437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914400" y="1066680"/>
            <a:ext cx="7772400" cy="4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79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eriodic and one-shot delayed ta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n’t use low level constructs when more appropriate high level ones exist, e.g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BlockingQue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, or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change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 in producer/consumer desig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Execu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instead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200" spc="-1" strike="noStrike">
                <a:solidFill>
                  <a:srgbClr val="008000"/>
                </a:solidFill>
                <a:latin typeface="Courier New"/>
              </a:rPr>
              <a:t>new Thread(runnable).start(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easuring performance of concurrent programs is hard, but must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simple examples first, but remember that they won’t necessarily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 skeptical; instrument as much as possible to confirm that your program is really wor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More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PI docs for </a:t>
            </a:r>
            <a:r>
              <a:rPr b="1" lang="en-GB" sz="2800" spc="-1" strike="noStrike">
                <a:solidFill>
                  <a:srgbClr val="000000"/>
                </a:solidFill>
                <a:latin typeface="Courier New"/>
              </a:rPr>
              <a:t>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iger download or on Sun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ug Lea's concurrency-interest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336699"/>
                </a:solidFill>
                <a:latin typeface="Arial"/>
              </a:rPr>
              <a:t>http://gee.cs.oswego.edu/dl/concurrent/dist/docs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urrent Programming in J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st Word in Swing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336699"/>
                </a:solidFill>
                <a:latin typeface="Arial"/>
              </a:rPr>
              <a:t>http://java.sun.com/products/jfc/tsc/articles/threads/threads3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article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0">
              <a:lnSpc>
                <a:spcPct val="83000"/>
              </a:lnSpc>
              <a:spcBef>
                <a:spcPts val="726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http://java.sun.com/products/jfc/tsc/article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3000"/>
              </a:lnSpc>
              <a:spcBef>
                <a:spcPts val="1437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588080" cy="16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5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1" lang="en-US" sz="1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3720" y="6599520"/>
            <a:ext cx="52704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b" anchorCtr="1">
            <a:spAutoFit/>
          </a:bodyPr>
          <a:p>
            <a:pPr algn="ctr">
              <a:lnSpc>
                <a:spcPct val="98000"/>
              </a:lnSpc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699A-A784-49C8-B205-407B7C4FF7E2}" type="slidenum">
              <a:rPr b="0" lang="en-GB" sz="900" spc="-1" strike="noStrike">
                <a:solidFill>
                  <a:srgbClr val="99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vea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950240" cy="4894200"/>
          </a:xfrm>
          <a:prstGeom prst="rect">
            <a:avLst/>
          </a:prstGeom>
          <a:noFill/>
          <a:ln w="0">
            <a:noFill/>
          </a:ln>
        </p:spPr>
        <p:txBody>
          <a:bodyPr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cess modifiers omitted unless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rruptedException abbreviated as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st interrupt handling omitted for brevity, but </a:t>
            </a:r>
            <a:r>
              <a:rPr b="0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ver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mportant in real lif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rrelevant methods, fields, and arguments elided with “…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lemental Mater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ing thre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914400" y="1569960"/>
          <a:ext cx="7924680" cy="493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69960"/>
                    <a:ext cx="7924680" cy="493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Compare hand-rolled to library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838080" y="1752480"/>
          <a:ext cx="7772400" cy="4497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752480"/>
                    <a:ext cx="7772400" cy="44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948440" cy="47991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y not be signific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de testing methodology (e.g., no warm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ifferent results obtained using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–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it </a:t>
            </a:r>
            <a:r>
              <a:rPr b="0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ignificant, a possible explan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otSpot not caching final fields across code blo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ibrary implementations have been tu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al: Don’t reinvent the wheel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05d8c"/>
                </a:solidFill>
                <a:latin typeface="Arial"/>
              </a:rPr>
              <a:t>ArrayBlockingQueue faster than hand-roll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BoundedBuff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950760" y="1600200"/>
            <a:ext cx="777240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Data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ebuf =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…,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fbuf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final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DataBuffer&gt; exch = new Exchanger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produ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ebu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utInto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isFull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)) 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exec.execute(new Runnable() { // consu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DataBuffer buf = fbuf;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void run(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while (buf != null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takeFromBuff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f (buf.isEmpty()) buf = exch.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(bu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 } /* </a:t>
            </a:r>
            <a:r>
              <a:rPr b="1" i="1" lang="en-GB" sz="2000" spc="-1" strike="noStrike">
                <a:solidFill>
                  <a:srgbClr val="000000"/>
                </a:solidFill>
                <a:latin typeface="Courier New"/>
              </a:rPr>
              <a:t>IE handling omitted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*/ }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lternative for 1 producer / 1 consumer sett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iew: Exchan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tomic exchange between thre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914400" y="1828800"/>
            <a:ext cx="7772400" cy="13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Exchanger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&lt;T&gt;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) throws IE</a:t>
            </a: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 exchange(T x, long timeout, TimeUnit un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                              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throws 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bCrawler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948440" cy="47228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une thread p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move HostTasks after poll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ScheduledFutur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cancel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tter approach using asynchronous I/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duces context switching overh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8880" indent="-31932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uld use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java.nio.channels.Select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rapped as a </a:t>
            </a:r>
            <a:r>
              <a:rPr b="0" lang="en-GB" sz="2400" spc="-1" strike="noStrike">
                <a:solidFill>
                  <a:srgbClr val="008000"/>
                </a:solidFill>
                <a:latin typeface="Arial"/>
              </a:rPr>
              <a:t>CompletionServic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lt;List&lt;URL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tch requests return immediat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spcBef>
                <a:spcPts val="726"/>
              </a:spcBef>
              <a:buClr>
                <a:srgbClr val="cc0000"/>
              </a:buClr>
              <a:buFont typeface="Arial"/>
              <a:buChar char="─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eparate task polls completion service for next ready list of lin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Refin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143000" y="1996560"/>
            <a:ext cx="4952880" cy="17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urrency Utilities in Practi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1143000" y="4952880"/>
            <a:ext cx="50292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im Peier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 Artisans, LL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141560" y="3809880"/>
            <a:ext cx="490824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080" bIns="46080" anchor="t">
            <a:spAutoFit/>
          </a:bodyPr>
          <a:p>
            <a:pPr>
              <a:lnSpc>
                <a:spcPct val="8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ing java.util.concurr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2720"/>
            <a:ext cx="78627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80720"/>
            <a:ext cx="794844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080" bIns="46080" anchor="t">
            <a:normAutofit/>
          </a:bodyPr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implement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PseudoRandom in different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xercise the implemen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3000"/>
              </a:lnSpc>
              <a:spcBef>
                <a:spcPts val="1437"/>
              </a:spcBef>
              <a:buClr>
                <a:srgbClr val="cc0000"/>
              </a:buClr>
              <a:buSzPct val="11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are their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107784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90720" y="2057400"/>
            <a:ext cx="7772400" cy="17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erface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/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 Return pseudorandom int in range [0,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nextInt(int n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PseudoRandom: similar to java.util.Rand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72720"/>
            <a:ext cx="786456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seudoRandom Exampl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90720" y="2057400"/>
            <a:ext cx="7772400" cy="34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1" lang="en-GB" sz="2000" spc="-1" strike="noStrike">
                <a:solidFill>
                  <a:srgbClr val="336699"/>
                </a:solidFill>
                <a:latin typeface="Courier New"/>
              </a:rPr>
              <a:t>NaivePseudoRandom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implements PseudoRandom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public int nextInt(int n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 = seed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seed = computeNext(see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return s % n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computeNext(int s) { return …;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int seed = …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1071720"/>
            <a:ext cx="7772400" cy="4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46080" bIns="46080" anchor="t">
            <a:spAutoFit/>
          </a:bodyPr>
          <a:p>
            <a:pPr>
              <a:lnSpc>
                <a:spcPct val="83000"/>
              </a:lnSpc>
              <a:spcBef>
                <a:spcPts val="711"/>
              </a:spcBef>
              <a:tabLst>
                <a:tab algn="l" pos="0"/>
                <a:tab algn="ctr" pos="914400"/>
                <a:tab algn="ctr" pos="1828800"/>
                <a:tab algn="ctr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d8c"/>
                </a:solidFill>
                <a:latin typeface="Arial"/>
              </a:rPr>
              <a:t>A simple but broken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Frank Greco</cp:lastModifiedBy>
  <dcterms:modified xsi:type="dcterms:W3CDTF">2004-06-23T03:26:29Z</dcterms:modified>
  <cp:revision>1413</cp:revision>
  <dc:subject/>
  <dc:title>2004 JavaOneSM Conference Speaker Template</dc:title>
</cp:coreProperties>
</file>