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30BF6E-FE55-42EC-A148-B1E8B7CF02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The quotation suggests that we change behavior because we are not content with existing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F4BA-188C-42A4-84AE-98F63D2BE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0C44-18CA-4C0C-AAAA-F2584B17E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1681-B609-439D-9AFD-A95FD8DD9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B205-D080-4AE3-80AD-A6E8A240A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C2949-549E-4CA8-97C5-2E5B0A9DD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C8297-6E19-49F5-8759-75E600AC7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0E82A-2D40-4FCF-A455-0E6D8CFFF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13469-7F7D-4C12-A325-510835EAA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2DFAC-939C-4C25-9EEA-2921C2638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86D4E-D6E1-45A8-8CE9-E972111BE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5213F-6850-4C58-AACD-4D60FAF2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153D-EDF0-4567-8EA4-18CE33092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28DC9-79BC-4BB3-9F37-AF8093033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C7571-C69F-441B-A83C-B05AE29FC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2E958-A43F-4707-9B8F-A25F31549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00F84-6780-4625-9FDC-7FFDFB1AC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9CBE5-D23B-4D00-8B45-5857C2F0C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6EBD-2897-40FC-A95F-7A5B4D867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B34B-B5A0-419A-A1D6-C7B1CA179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45B4-0EEB-4129-BCAE-7D78B3164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14BB-57A7-4A34-8CE8-392E83A4E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CC92-193C-4796-8A9B-4EEAE941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937D-E99E-46C8-B517-84BD0F3F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6BA7-C19C-4E0C-9CEF-754CAB228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2240"/>
                <a:chOff x="0" y="304920"/>
                <a:chExt cx="9144000" cy="64022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5960" cy="6858000"/>
                <a:chOff x="304920" y="0"/>
                <a:chExt cx="85359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180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2560" y="1415880"/>
              <a:ext cx="1787400" cy="2324160"/>
              <a:chOff x="412560" y="1415880"/>
              <a:chExt cx="178740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2560" y="1512720"/>
                <a:ext cx="17874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040" y="1419120"/>
                <a:ext cx="144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3680" cy="193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3680" indent="-2811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157B43D-58D8-4306-8C8D-0A75C8A5DF6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180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3240" y="887400"/>
              <a:ext cx="6657840" cy="2851200"/>
              <a:chOff x="3240" y="887400"/>
              <a:chExt cx="665784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180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3240" y="3052440"/>
                <a:ext cx="510048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8040" y="1487160"/>
                <a:ext cx="605304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860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144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388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146052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15DFA4-8167-4994-81DD-845278E250C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1640" y="4952520"/>
            <a:ext cx="38862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raig McClure, M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OSG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University of Arizona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arch 200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peten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s of rules becomes exces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earn organizing principles or “perspectives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rspectives permit assorting information by relevan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experience of responsibility arises from active decision-mak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competent physician realizes the multitude of factors influencing the likelihood that a single symptom represents ischemia and has a decision tree to allocate probabilities balancing a number of factors in deciding when to order an EKG or other diagnostic modalities and begin treatment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uitive diagnosi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pproach to problem molded by perspective arising from multiple real world experienc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olistic similarity recognition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earner uses intuition to realize “what” is happen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scious decision-making and rules used to formulate pla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physician realizes “this is an infarction” and then applies rules to decide about thrombolysi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make decis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solve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 what work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 decomposition of situation into discrete elemen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Pattern recognition extends to plan as well as diagnos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is is an infarction and we should implement the following diagnostic and therapeutic interventions.”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When Expertise Fai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xpert uses rules and explicit decision-making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vice: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follows rules and does not feel responsible for outcome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recognizes new situations in which the rules may be applied. Still does not feel responsibl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 </a:t>
            </a: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Compet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Follows rules, applies an organizing “perspective” to determine what elements of the problem are relevant and feels accountable because of decision-making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o become competent you must feel bad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Hubert Dreyfus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learner uses pattern recognition arising from extensive experience to identify the problem (“what” is happening”) and rules and analysis in formulating the “how” of the solution.  A sense of responsibility follows the decision-making.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immediately sees “what” is happening and “how” to approach the situation.  Pattern recognition extends to management plan as well as diagnosis.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utility of the concept of skill acquisition lies in helping the teacher understand how to assist the learner in advancing to the next level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ctivities Studie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irplane pilot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Chess player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utomobile drivers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dult learners of a second langu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i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vi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dvanced Beginn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pet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fici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per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est Opportunity to Obser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structured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 of potentially relevant facts enormou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ariety of solutions exten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The novice follows ru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Specific rules for specific circumstanc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No modifi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Context free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Don’t feel responsible for other than following the ru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arly medical student is taught to obtain an EKG for chest pain, without other modifier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w “situational” elements are identifie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ules begin to be applied to related condi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cisions still are made by rule applic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oes not experience personal responsibil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more experienced medical student finds that dyspnea also might be associated with cardiac ischemia and orders an EKG for that situation as well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raig McClure</dc:creator>
  <dc:description/>
  <dc:language>en-US</dc:language>
  <cp:lastModifiedBy>Craig McClure</cp:lastModifiedBy>
  <cp:revision>0</cp:revision>
  <dc:subject/>
  <dc:title>Dreyfus Model of Skills Acquisition</dc:title>
</cp:coreProperties>
</file>