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Shephred's%20Hymn%20(Romanian%20Panpipes)%20(Ron%20Korb).wav" ContentType="audio/x-wav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A74-DED6-413E-876B-2E1B560F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3B0-3D04-41EA-84B5-1E39E4AD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45D-FCE0-4605-8CAA-38771782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81F-C4CC-4557-BDF2-FF1CA916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437-E097-44DC-8BF7-FA8301C2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1855-3C97-44A5-A2EB-EE72643B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7C66-0EF8-473D-9449-2A50A5B1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B6E-BB89-45E6-A7D4-FCE07B5C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701-D807-4B09-BBC6-605E4BB4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95E-720F-45AC-8D55-31189B71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481-535D-4D62-AE1B-48AECE0E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D0B-B71D-47FB-B4D4-B3FD7101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989A-45F1-4CDA-AD73-DA283B45C7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hephred&apos;s%20Hymn%20(Romanian%20Panpipes)%20(Ron%20Korb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641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Ce photographe indonésien, né dans l’île de Jakarta, affirme que son pays est l’un des meilleurs endroits du monde pour un amoureux  de la photographie. À cause de l'impressionnante beauté des milliers d'îles de l’archi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À vrai dire, Rarindra photographierait dans bien d’autres endroits du monde indépendament de la raison et du li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1%20rarinda%2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1%20rarinda%2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%20rarinda%20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01%20rarinda%20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1%20rarinda%20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%20rarinda%2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1%20rarinda%2014a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1%20rarinda%2015" descr=""/>
          <p:cNvPicPr/>
          <p:nvPr/>
        </p:nvPicPr>
        <p:blipFill>
          <a:blip r:embed="rId1"/>
          <a:stretch/>
        </p:blipFill>
        <p:spPr>
          <a:xfrm>
            <a:off x="-457200" y="-235080"/>
            <a:ext cx="10134720" cy="70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1%20rarinda%2016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708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01%20rarinda%201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544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Une image peut transmettre des sensations par la lumière, la couleur, la texture, et bien sûr par le contenu qu’elle mon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Mais si cette image est améliorée avec des détails techniques qui lui apportent une sensation de profondeur, de troisième dimension, la chose déjà change sur le plan de la perf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%20rarinda%2018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1%20rarinda%2019" descr="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2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1%20rarinda%2020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%20rarinda%2021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1%20rarinda%202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01%20rarinda%202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1%20rarinda%2024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01%20rarinda%20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1%20rarinda%2026" descr=""/>
          <p:cNvPicPr/>
          <p:nvPr/>
        </p:nvPicPr>
        <p:blipFill>
          <a:blip r:embed="rId1"/>
          <a:stretch/>
        </p:blipFill>
        <p:spPr>
          <a:xfrm>
            <a:off x="609480" y="-3240"/>
            <a:ext cx="792504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1%20rarinda%202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670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’est donc la technique qu’utilise Rarindra Prakarsa après avoir photographier ; il travaille certains éléments pour donner une plus grande dimension à ses trava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Vous ne me croirez pas, mais le timide Rarindra ne se considère pas comme un photographe professionne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01%20rarinda%202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1%20rarinda%202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1%20rarinda%203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1%20rarinda%203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1%20rarinda%203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1%20rarinda%203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1%20rarinda%203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1%20rarinda%2037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1%20rarinda%2039" descr=""/>
          <p:cNvPicPr/>
          <p:nvPr/>
        </p:nvPicPr>
        <p:blipFill>
          <a:blip r:embed="rId1"/>
          <a:stretch/>
        </p:blipFill>
        <p:spPr>
          <a:xfrm>
            <a:off x="914400" y="-12600"/>
            <a:ext cx="73152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Consideraçõ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486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rial"/>
              </a:rPr>
              <a:t>Rarindra PRAKA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1%20rarind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%20rarinda%2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1%20rarinda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1%20rarinda%205" descr=""/>
          <p:cNvPicPr/>
          <p:nvPr/>
        </p:nvPicPr>
        <p:blipFill>
          <a:blip r:embed="rId1"/>
          <a:stretch/>
        </p:blipFill>
        <p:spPr>
          <a:xfrm>
            <a:off x="0" y="-392040"/>
            <a:ext cx="9144000" cy="783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%20rarinda%2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1%20rarinda%2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3:09:03Z</dcterms:created>
  <dc:creator>Rarindra Prakarsamusi</dc:creator>
  <dc:description>bel 22.11</dc:description>
  <dc:language>en-US</dc:language>
  <cp:lastModifiedBy>C. Moa</cp:lastModifiedBy>
  <dcterms:modified xsi:type="dcterms:W3CDTF">2008-01-06T22:26:08Z</dcterms:modified>
  <cp:revision>4</cp:revision>
  <dc:subject/>
  <dc:title>poésie viusuelle de Rarindra Prakarsamusi</dc:title>
</cp:coreProperties>
</file>